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42100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8368-1039-46BB-A34A-4548120D4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25A0-55F3-46DF-A929-3712EC93E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BCB7-4079-49F6-AD8A-97A330647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F88A-6E24-4A0D-B85C-81AB27BD5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581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26B6-EF45-47C0-81F8-684036507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7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77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04B1-5805-4CD9-8A16-6125D261D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5F3A-01BD-4EEA-963F-51BB498AD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D189-63EB-4477-86E2-010A36097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81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6934-A6C6-441A-A23B-A5B3201AD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04F6-7B95-4152-B344-B35EA0E81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A277-00C0-425D-A16B-E969E593B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7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A543-226B-4A51-9A55-C1BFFE460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2640" indent="-18108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80960" indent="-14580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676520" y="6534000"/>
            <a:ext cx="4572000" cy="324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txBody>
          <a:bodyPr lIns="90000" rIns="90000" tIns="684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Oleg Goldshmidt: “Look, Ma, No BIOS!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04920" y="6534000"/>
            <a:ext cx="1218960" cy="3240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txBody>
          <a:bodyPr lIns="144000" rIns="90000" tIns="684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03F-F573-4E26-A5C5-7EFE0D320224}" type="slidenum">
              <a:rPr b="0" lang="he-I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1720" y="763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Haifa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55308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ifux, September 200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flipV="1">
            <a:off x="1523880" y="6476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6120" y="14436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2280" y="39600"/>
            <a:ext cx="304920" cy="304920"/>
            <a:chOff x="152280" y="39600"/>
            <a:chExt cx="304920" cy="304920"/>
          </a:xfrm>
        </p:grpSpPr>
        <p:grpSp>
          <p:nvGrpSpPr>
            <p:cNvPr id="15" name=""/>
            <p:cNvGrpSpPr/>
            <p:nvPr/>
          </p:nvGrpSpPr>
          <p:grpSpPr>
            <a:xfrm>
              <a:off x="152280" y="39600"/>
              <a:ext cx="304920" cy="304920"/>
              <a:chOff x="152280" y="39600"/>
              <a:chExt cx="304920" cy="304920"/>
            </a:xfrm>
          </p:grpSpPr>
          <p:sp>
            <p:nvSpPr>
              <p:cNvPr id="16" name=""/>
              <p:cNvSpPr/>
              <p:nvPr/>
            </p:nvSpPr>
            <p:spPr>
              <a:xfrm>
                <a:off x="152280" y="39600"/>
                <a:ext cx="304920" cy="30492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52280" y="396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0"/>
                    </a:moveTo>
                    <a:lnTo>
                      <a:pt x="384" y="192"/>
                    </a:lnTo>
                    <a:lnTo>
                      <a:pt x="192" y="384"/>
                    </a:lnTo>
                    <a:lnTo>
                      <a:pt x="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228240" y="115560"/>
              <a:ext cx="152640" cy="152640"/>
              <a:chOff x="228240" y="115560"/>
              <a:chExt cx="152640" cy="152640"/>
            </a:xfrm>
          </p:grpSpPr>
          <p:sp>
            <p:nvSpPr>
              <p:cNvPr id="19" name=""/>
              <p:cNvSpPr/>
              <p:nvPr/>
            </p:nvSpPr>
            <p:spPr>
              <a:xfrm>
                <a:off x="228240" y="115560"/>
                <a:ext cx="152640" cy="15264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28240" y="115560"/>
                <a:ext cx="152640" cy="15264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0" y="96"/>
                    </a:lnTo>
                    <a:lnTo>
                      <a:pt x="96" y="192"/>
                    </a:lnTo>
                    <a:lnTo>
                      <a:pt x="192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66400" y="153720"/>
              <a:ext cx="75960" cy="75960"/>
              <a:chOff x="266400" y="153720"/>
              <a:chExt cx="75960" cy="75960"/>
            </a:xfrm>
          </p:grpSpPr>
          <p:sp>
            <p:nvSpPr>
              <p:cNvPr id="22" name=""/>
              <p:cNvSpPr/>
              <p:nvPr/>
            </p:nvSpPr>
            <p:spPr>
              <a:xfrm>
                <a:off x="266400" y="153720"/>
                <a:ext cx="75960" cy="7596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66400" y="153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48" y="0"/>
                    </a:moveTo>
                    <a:lnTo>
                      <a:pt x="96" y="48"/>
                    </a:lnTo>
                    <a:lnTo>
                      <a:pt x="48" y="96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240" bIns="302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1219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219320"/>
            <a:ext cx="5138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Haifa Lab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6172200"/>
            <a:ext cx="18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ifux@Tech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6668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380880"/>
            <a:ext cx="837720" cy="837720"/>
            <a:chOff x="380880" y="380880"/>
            <a:chExt cx="837720" cy="837720"/>
          </a:xfrm>
        </p:grpSpPr>
        <p:grpSp>
          <p:nvGrpSpPr>
            <p:cNvPr id="71" name=""/>
            <p:cNvGrpSpPr/>
            <p:nvPr/>
          </p:nvGrpSpPr>
          <p:grpSpPr>
            <a:xfrm>
              <a:off x="380880" y="380880"/>
              <a:ext cx="837720" cy="837720"/>
              <a:chOff x="380880" y="380880"/>
              <a:chExt cx="837720" cy="837720"/>
            </a:xfrm>
          </p:grpSpPr>
          <p:sp>
            <p:nvSpPr>
              <p:cNvPr id="72" name=""/>
              <p:cNvSpPr/>
              <p:nvPr/>
            </p:nvSpPr>
            <p:spPr>
              <a:xfrm>
                <a:off x="380880" y="380880"/>
                <a:ext cx="837720" cy="83772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80880" y="380880"/>
                <a:ext cx="837720" cy="837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0"/>
                    </a:moveTo>
                    <a:lnTo>
                      <a:pt x="384" y="192"/>
                    </a:lnTo>
                    <a:lnTo>
                      <a:pt x="192" y="384"/>
                    </a:lnTo>
                    <a:lnTo>
                      <a:pt x="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90040" y="590040"/>
              <a:ext cx="419040" cy="419040"/>
              <a:chOff x="590040" y="590040"/>
              <a:chExt cx="419040" cy="419040"/>
            </a:xfrm>
          </p:grpSpPr>
          <p:sp>
            <p:nvSpPr>
              <p:cNvPr id="75" name=""/>
              <p:cNvSpPr/>
              <p:nvPr/>
            </p:nvSpPr>
            <p:spPr>
              <a:xfrm>
                <a:off x="590040" y="590040"/>
                <a:ext cx="419040" cy="41904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0040" y="590040"/>
                <a:ext cx="419040" cy="41904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0" y="96"/>
                    </a:lnTo>
                    <a:lnTo>
                      <a:pt x="96" y="192"/>
                    </a:lnTo>
                    <a:lnTo>
                      <a:pt x="192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95160" y="695160"/>
              <a:ext cx="208800" cy="208800"/>
              <a:chOff x="695160" y="695160"/>
              <a:chExt cx="208800" cy="208800"/>
            </a:xfrm>
          </p:grpSpPr>
          <p:sp>
            <p:nvSpPr>
              <p:cNvPr id="78" name=""/>
              <p:cNvSpPr/>
              <p:nvPr/>
            </p:nvSpPr>
            <p:spPr>
              <a:xfrm>
                <a:off x="695160" y="695160"/>
                <a:ext cx="208800" cy="208800"/>
              </a:xfrm>
              <a:prstGeom prst="rect">
                <a:avLst/>
              </a:prstGeom>
              <a:solidFill>
                <a:srgbClr val="788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5160" y="695160"/>
                <a:ext cx="208800" cy="208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48" y="0"/>
                    </a:moveTo>
                    <a:lnTo>
                      <a:pt x="96" y="48"/>
                    </a:lnTo>
                    <a:lnTo>
                      <a:pt x="48" y="96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2057400" y="6172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  <a:p>
            <a:pPr lvl="1" marL="228600" indent="0" algn="ctr">
              <a:lnSpc>
                <a:spcPct val="10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117360" algn="ctr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185760" algn="ctr">
              <a:lnSpc>
                <a:spcPct val="104000"/>
              </a:lnSpc>
              <a:spcBef>
                <a:spcPts val="300"/>
              </a:spcBef>
              <a:buClr>
                <a:srgbClr val="7889fb"/>
              </a:buClr>
              <a:buFont typeface="SimSu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320760" algn="ctr">
              <a:lnSpc>
                <a:spcPct val="104000"/>
              </a:lnSpc>
              <a:spcBef>
                <a:spcPts val="2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32076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32076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inuxbios.org/papers/linux-magazine/LinuxBIOS.pdf" TargetMode="External"/><Relationship Id="rId2" Type="http://schemas.openxmlformats.org/officeDocument/2006/relationships/hyperlink" Target="http://www.linuxbios.org/papers/linux-magazine/LinuxBIOS.pdf" TargetMode="External"/><Relationship Id="rId3" Type="http://schemas.openxmlformats.org/officeDocument/2006/relationships/hyperlink" Target="http://www.linuxbios.org/papers/linux-magazine/LinuxBIOS.pdf" TargetMode="External"/><Relationship Id="rId4" Type="http://schemas.openxmlformats.org/officeDocument/2006/relationships/hyperlink" Target="http://www.linuxbios.org/papers/linux-magazine/LinuxBIOS.pdf" TargetMode="External"/><Relationship Id="rId5" Type="http://schemas.openxmlformats.org/officeDocument/2006/relationships/hyperlink" Target="http://www.linuxbios.org/papers/linux-magazine/LinuxBIOS.pdf" TargetMode="External"/><Relationship Id="rId6" Type="http://schemas.openxmlformats.org/officeDocument/2006/relationships/hyperlink" Target="http://www.linuxbios.org/papers/linux-magazine/LinuxBIOS.pdf" TargetMode="External"/><Relationship Id="rId7" Type="http://schemas.openxmlformats.org/officeDocument/2006/relationships/hyperlink" Target="http://www.linuxbios.org/papers/linux-magazine/LinuxBIOS.pdf" TargetMode="External"/><Relationship Id="rId8" Type="http://schemas.openxmlformats.org/officeDocument/2006/relationships/hyperlink" Target="http://www.linuxbios.org/papers/linux-magazine/LinuxBIOS.pdf" TargetMode="External"/><Relationship Id="rId9" Type="http://schemas.openxmlformats.org/officeDocument/2006/relationships/hyperlink" Target="http://www.linuxjournal.com/print.php?sid=7170" TargetMode="External"/><Relationship Id="rId10" Type="http://schemas.openxmlformats.org/officeDocument/2006/relationships/hyperlink" Target="http://www.linuxjournal.com/print.php?sid=7170" TargetMode="External"/><Relationship Id="rId11" Type="http://schemas.openxmlformats.org/officeDocument/2006/relationships/hyperlink" Target="http://www.linuxjournal.com/print.php?sid=7170" TargetMode="External"/><Relationship Id="rId12" Type="http://schemas.openxmlformats.org/officeDocument/2006/relationships/hyperlink" Target="http://www.linuxjournal.com/print.php?sid=7170" TargetMode="External"/><Relationship Id="rId13" Type="http://schemas.openxmlformats.org/officeDocument/2006/relationships/hyperlink" Target="http://www.linuxjournal.com/print.php?sid=7170" TargetMode="External"/><Relationship Id="rId14" Type="http://schemas.openxmlformats.org/officeDocument/2006/relationships/hyperlink" Target="http://www.linuxjournal.com/print.php?sid=7170" TargetMode="External"/><Relationship Id="rId15" Type="http://schemas.openxmlformats.org/officeDocument/2006/relationships/hyperlink" Target="http://www.linuxjournal.com/print.php?sid=7170" TargetMode="External"/><Relationship Id="rId16" Type="http://schemas.openxmlformats.org/officeDocument/2006/relationships/hyperlink" Target="http://www.linuxbios.org/papers/linux-magazine/LinuxBIOS.pdf" TargetMode="External"/><Relationship Id="rId17" Type="http://schemas.openxmlformats.org/officeDocument/2006/relationships/hyperlink" Target="http://www.linuxbios.org/papers/linux-magazine/LinuxBIOS.pdf" TargetMode="External"/><Relationship Id="rId18" Type="http://schemas.openxmlformats.org/officeDocument/2006/relationships/hyperlink" Target="http://www.linuxbios.org/papers/linux-magazine/LinuxBIOS.pdf" TargetMode="External"/><Relationship Id="rId19" Type="http://schemas.openxmlformats.org/officeDocument/2006/relationships/hyperlink" Target="http://www.clustermatic.org/mailman/listinfo/linuxbios" TargetMode="External"/><Relationship Id="rId20" Type="http://schemas.openxmlformats.org/officeDocument/2006/relationships/hyperlink" Target="http://www.clustermatic.org/mailman/listinfo/linuxbios" TargetMode="External"/><Relationship Id="rId21" Type="http://schemas.openxmlformats.org/officeDocument/2006/relationships/hyperlink" Target="http://www.clustermatic.org/mailman/listinfo/linuxbios" TargetMode="External"/><Relationship Id="rId22" Type="http://schemas.openxmlformats.org/officeDocument/2006/relationships/hyperlink" Target="http://www.clustermatic.org/mailman/listinfo/linuxbios" TargetMode="External"/><Relationship Id="rId23" Type="http://schemas.openxmlformats.org/officeDocument/2006/relationships/hyperlink" Target="http://www.clustermatic.org/mailman/listinfo/linuxbios" TargetMode="External"/><Relationship Id="rId24" Type="http://schemas.openxmlformats.org/officeDocument/2006/relationships/hyperlink" Target="http://www.clustermatic.org/mailman/listinfo/linuxbios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Look, Ma, No BIOS!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33526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000" bIns="46800" anchor="t">
            <a:no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 Hands-Off Introduction To LinuxBIO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Oleg Goldshmid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727272"/>
                </a:solidFill>
                <a:latin typeface="Arial"/>
              </a:rPr>
              <a:t>IBM Haifa Research Laboratory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Swapping The BIOS Chip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ZIF socket plugged into the motherboard, with the original BIOS chip inserted (both images are from the Linux Magazine article on LinuxBIOS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ng the DoC into the ZIF socke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BE ADVISED THAT THIS STEP CAN HURT OR KILL YOU!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n't done this, or are not trained, or have a history of getting hurt by hardware, DON'T DO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03760" y="1557360"/>
            <a:ext cx="2125800" cy="232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03800" y="4056120"/>
            <a:ext cx="292752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7EE8-3E66-4B55-80B2-4B0DAC7521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What Can Go Wrong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time you stick your hand into an open machine while the power is on, you're risking life and limb (ESD), and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MESS UP THE HARDW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rect insertion of the flash (show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s power and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oC ge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ot (see the molten stick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rect jumper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ssive and/or inappropriate use of metal objects such as screw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cellaneous miswirings and mishand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DCEC-DDF4-46B7-AE9D-DAEDA67494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After LinuxBIOS Boots: Troubleshooting etc.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see a penguin instead of the normal BIOS logo – your prayers have been hear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D, keyboard, ethernet, root FS? Not to worry – can be sorted out. The main thing is to have the kernel ru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nguin? You have not said the right pr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a null modem RS-232 cable to the first serial port on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he cable to the development machine and start a 115200 baud, 8 bit, no parity serial 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boot and 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root FS on the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a few more MTD options (to format, write the fs) in kernel, rebuild, and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partition (~7MB) in the DoC, and format the 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device that LinuxBIOS expects to find the root fs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o put into the root fs? See Tom’s Root Boot or another tiny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1E7B-83B0-44EC-ADB8-7E0D1086C3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How It Work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bit mode from the start: load GDT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able memory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LGDT instruction and provide a pointer to a table descri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roblem with having the table in NVRAM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akes about 10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hipset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code needed to turn DRAM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t can be done i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assumes hardware is initialized by BIOS. LinuxBIOS cannot assum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f IDE controller is not initialized then Linux assumes that BIOS disabled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line change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make the driver enable IDE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ajor compon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mod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t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board fix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unzip and jump to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EA02-052A-49C1-B15F-A2F4A24B89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Protected Mode Setup: How To Run a Pentium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segmentation, paging, TLB h/w in a sane state, turn on segmentation, not paging - 17 instru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ruction, executed in 16-bit mode: jump to BIOS startup – a standard part of x86 re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instructions: disable interrupts, clear TLB, set code and data segments to know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instruction: load a pointer to GDT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o manage addressing in segmented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ructions: turn on memory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instructions: do remaining segment register setup for protected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point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running in protected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ddress 4GB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running a Pentium, not a 80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A2FF-5BA3-4C86-BCD2-1395FF8FA7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DRAM, Transition to C, Mainboard Fixup, Starting Kernel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ortable, tricky, tough to figure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the stack and call a function to do the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board fix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on cacheing (MTRR) so that the kernel unzips in reasonab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wise it can take a minute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all the FLASH available (rather than 64K or 128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s some register manipulation, different for each chi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power management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stuff Linux cannot (or will not) 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 clock interrupt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it of PCI initialization – set Base Address 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e and run the kernel (snarfed from the kernel it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parameters,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gunzip work in ROM environment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eclare initialized arrays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mp to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startup_32(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t to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setup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LILO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5E4C-1846-4DAE-B546-9E00AA8BA67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OK, How Do We Boot a Real Kernel from LinuxBIOS? LOBO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OS (Linux OS Boots OS) – a system call that allows Linux to boot another OS without leaving the 32-bit protected mode or using the 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ing the kernel (in kerne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a file into memory not occupied by the running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critical structures (page tables, boot arguments, root partition location, log buffer, etc) into a saf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off interrupts (point of no return – check all err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memory to the new pag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final bootstrap code (that copies the kernel to 0x100000 and jumps to it) to a safe place where it will not be overwritten by the new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mp to the final bootstrap code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will do its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EDC9-1A17-4B82-80AE-A148A6C8FE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LOBOS Implementation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ajor pieces in about 30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 for the new system call in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arch/i386/kernel/entry.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dditions to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arch/i386/kernel/head.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make space for the critical kernel data that will be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ew additional pages at the beginning of the kernel virtual address space, not used in normal kernel operation, hence s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de to read in the new file in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kernel/sy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1dc8"/>
                </a:solidFill>
                <a:latin typeface="Arial"/>
              </a:rPr>
              <a:t>sys_lobos(char* fil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oks up the file and calls </a:t>
            </a:r>
            <a:r>
              <a:rPr b="0" lang="en-US" sz="1400" spc="-1" strike="noStrike">
                <a:solidFill>
                  <a:srgbClr val="061dc8"/>
                </a:solidFill>
                <a:latin typeface="Arial"/>
              </a:rPr>
              <a:t>read_exec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de to switch off interrupts, move the critical data, and switch over to the new page tables, in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arch/i386/kernel/proces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1dc8"/>
                </a:solidFill>
                <a:latin typeface="Arial"/>
              </a:rPr>
              <a:t>os_restart(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ome assembly required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de to copy the new kernel to the right place and jump to it, in </a:t>
            </a:r>
            <a:r>
              <a:rPr b="0" lang="en-US" sz="1600" spc="-1" strike="noStrike">
                <a:solidFill>
                  <a:srgbClr val="061dc8"/>
                </a:solidFill>
                <a:latin typeface="Arial"/>
              </a:rPr>
              <a:t>kernel/sy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alled from userspace, comma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than BIOS (a lot of waiting in BIOS is for DOS 1.0 support task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A73E-F3DF-4755-8002-A77FB4AC9E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Related Work: bootimg, Two Kernel Monte (TKM)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29600" cy="474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i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 userspace program to read a file in and boot a new image via a system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s VM (paging) off (but not i386-style seg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ser buffer (in VM) has to be copied into kernel memory accessible without 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es on kernel components being in physically contiguou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 LOC (600 architecture-dependent), some structures (GDT) need to be maintained in sync with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with Linux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rough permissions checking, ramdisk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Kernel Monte (T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s off both VM and i386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s and internal virtual-to-physical page map (so it can still get to kern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es on BIOS to reset hardware (e.g. video card) after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not be used with LinuxBIOS (because of reliance on the B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require an external program to boot a new image (LOBOS doesn’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D776-4AAC-4E8D-97BB-C7CA0B4F56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Statu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boards, chip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many to list, quite a few vendors, but not guaranteed that yours will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re marked as “unsta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chance with Intel than with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, K8, K7, PowerPC, P4, PIII, PII, Cyrix (VIA), Geode (now AMD) and SC520 (AM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C (some: Motorola Sandpoint is reported as working, IBM 970 port 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(but of cour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B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2K (LILO and GRUB support with the help of BOC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gest, baddest, fastest clusters built by LinuxNetworx for LA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tium and 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E389-B261-4C07-8DFD-0F74BA5276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BIOS Milestone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1970ies: Gary Kildall’s 50 mile comm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’s 8080, Interp/80, PL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’s Intellec-8 (microprocessor + memory + terminal port – stor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’s (8 inch, $500) floppy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Torode – floppy controller, Gary Kildall – CP/M (Control Program/Moni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6: Intel loses interest, Imsai (and a 100 other companies) need an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ldall splits CP/M into hardware-independent part and hardware-specific 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1980: IBM in Boca Raton make the PC (Acorn) – in 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ke every IBM rule by making an open system, published all sp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ed – and copyrighted! - BIOS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1: Rod Canion, Jim Harris, and Bill Murto at Houston’s House of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lans on placemat: Mexican restaurant, build HDs, car key f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ner: reverse engineer BIOS to make a 100% IBM-compatible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: 15 senior programmers, several months, $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1982: Phoenix sells IBM-compatible BIOS chips for 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3472-1648-4677-A21F-F9EA0D6404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LinuxBIOS in Real Life (Have You Even Been to Los Alamos?)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th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perdense Server project (IBM Aust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esearch.ibm.com/journal/rd/475/felter.pd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CSI/i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 hardware projec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ince everybody there is a commercial adva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ince Marketing that they can convince potential customer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ince Legal that open source (GPL) is not exactly AI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l with existing and emerging de-facto standards (e.g. EF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mark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L RFPed 2 clusters requiring LinuxBIOS at $19MM – vendors lined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B694-7176-413A-98CB-686FCD9A7A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mising direction in general – let’s get rid of the B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totype develop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nkering with hardware may cause pain in various parts of anatomy, or 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clear if target hardware or prototype hardware is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ite a bit of hacking may be required – not necessarily a bad 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-  a major advantage for h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OS support,  though LILO/GRUB are reported to work, so there is h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duct develop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 limited range of hardware to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nkering with hardware is not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te a few advantages in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 remote access, logging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gest question – hardware and 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EFF3-4F89-4ADE-8A54-2A24B0CC86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Further Information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nuxbio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ting Linux on Your Motherboard” by Antony Stone, Linux Magazine, March 2003, p. 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linuxbios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3"/>
              </a:rPr>
              <a:t>.org/papers/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4"/>
              </a:rPr>
              <a:t>linux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5"/>
              </a:rPr>
              <a:t>-magazine/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6"/>
              </a:rPr>
              <a:t>LinuxBIOS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8"/>
              </a:rPr>
              <a:t>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BIOS at Four” by Ron Minnich, Linux Journal, February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0"/>
              </a:rPr>
              <a:t>linuxjournal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1"/>
              </a:rPr>
              <a:t>.com/print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2"/>
              </a:rPr>
              <a:t>php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3"/>
              </a:rPr>
              <a:t>?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4"/>
              </a:rPr>
              <a:t>sid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5"/>
              </a:rPr>
              <a:t>=7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OS (Linux OS Boots Linux OS): Booting a Kernel in 32-bit Mode” by Ron Minnich,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nual Linux Showcase and Conference, Octobe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nuxbios.org/papers/als00/lobo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ap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6"/>
              </a:rPr>
              <a:t>http://www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7"/>
              </a:rPr>
              <a:t>linuxbios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8"/>
              </a:rPr>
              <a:t>.org/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0"/>
              </a:rPr>
              <a:t>clustermatic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1"/>
              </a:rPr>
              <a:t>.org/mailman/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2"/>
              </a:rPr>
              <a:t>listinfo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3"/>
              </a:rPr>
              <a:t>/</a:t>
            </a: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hlinkClick r:id="rId24"/>
              </a:rPr>
              <a:t>linux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history: “Accidental Empires” by Robert X. Cringely, Harper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7373-DE6D-49CC-AB10-F446F27FB789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How BIOS Work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cold state a special hardware circuit sends a signal to the RESET pin of the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sters (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s, e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set to fixed values, and the code found at physical address 0xfffffff0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dress is mapped by hardware to BIOS ROM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does not use BIOS routines, BIOS must be executed in rea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real mode addresses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(seg*16+off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available in the col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GDT, LDT, or paging are needed, must be initialized in real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BIOS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initialization (e.g. PCI configu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for an OS to boot (configur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es the first sector of the boot device to RAM (at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0x00007c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jumps to it, and exec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es the boot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5025-659F-4B8D-8E54-45BED159F4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How Bootloader Work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in the first sector are loaded into RAM and exec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loader copies itself from 0x00007c00 to 0x0009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up real mod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es a BIOS procedure to load the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tup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de to 0x00090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es a BIOS procedure to load the rest of the image from 0x001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mps to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tup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sector (MBR) contains the partition table and a small program that loads the first sector of the partition with the chose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S (e.g. Win98) identify the boot partition with an “active”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94000"/>
              </a:lnSpc>
              <a:spcBef>
                <a:spcPts val="349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the OS whose image is on the active partition may be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histicated programs such as LILO or GRUB may allow runtime choice of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LO’s first stage is loaded to 0x00007c00, moves itself to 0x0009a000, sets up real mode stack, loads second stage to 0x0009b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hooses kernel, the rest is similar to flop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jumps to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tup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539E-9092-4568-A172-F4B8B9CCAB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How setup() Work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up() function is loaded at offset 0x200 of the kernel ima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s hardware devices and sets up the kernel execu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Linux sometimes relies on BIOS for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es a BIOS procedure to determine the amount of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graphics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initializes the disk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for buses, bus mice, APM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eeded, moves the kernel image to make space for de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up the Interrupt Descriptor Table (IDT) and a Global Descriptor Table (GD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ps the interrupts (BIOS maps hardware interrupts to the CPU exception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to protected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mps to 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tartup_32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starts the kernel pr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AFFA-0746-4801-AF3C-20DD5114D3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BIOS Today: A Pain In Sensitive Parts Of Anatomy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s (started at Cluster Research Lab, Advanced Computing Lab, LAN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s depend on vendor-supplied BIOS for bo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 normally relies on inherently unreliable legacy devices (floppy, HD) to boot the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 cannot deal with non-standard, experimental hardw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full control of the boot process, to the point that jobs in the queue might indicate which kernel to run, where to find root F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ce is a night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es are buggy and cannot be fixed (by us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elopment toolchain is highly specialized (read: obsolete), difficult to come by, can be quite exp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wandering around a few hundred node cluster with a monitor and a keyboard to change one BIOS set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id of the legacy BIOS altoge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526D-4D49-4DFC-A94B-57B836459D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Requirements and Decisions (As Specified by LANL)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29600" cy="474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point: the current status of netboot on 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boot has been available on Suns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more than 1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PCs, BIOS and PROM must be in 16-bit mode - 8086 (6MHz, 25 years old CPU) emulation, all sorts of weird stuff such as near and far pointer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: NIC boot model has to conform to NDIS2 (16-bit Windows model), thanks to Microsoft a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something onto CPU that can load boot parameters over network, find out what to do, and load an OS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– nothing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ble: no (or minimal) assembly, support a variety of NICs, motherboa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 reinventing the wheel – try to use code that supports lots of hardware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standard protocols – NFS, bootp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netboot from scratch or use a minimal Linux kern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netboot will duplicate OS (Sun netboot – no support for AFS, msdo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9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l space savings (netboot – 128K, minimal Linux – 300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A42E-3FD2-471E-AF97-4BA6233EC0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Operation, Benefits and Disadvantages of LinuxBIOS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zips Linux out of flash (NV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 but the f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amount of hardware initialization, Linux does the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boot times (not system start) as fast as 3 secon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 real OS rather than simple netboot or BIOS is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can boot over Ethernet, Myrinet, Quadrics, S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ster nodes can be as simple as CPU + memory + networ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 diagnostic and maintenance over serial 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motherboards are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manipulation may b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4478-0FD8-4C4B-8966-B2BCA7BE16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LinuxBIOS Do-It-Yourself HOWTO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6364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whether the motherboard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OS chip must be removable from its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nee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-on-Chip (DoC) memory device to be plugged in instead of the BIOS chip (8 MByte instead of 2 M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-pin ZIF (Zero Insertion Force) socket to make swapping chips easy and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00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” and “target” machines (can be the same), BIOS chip in ZIF on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Linux on target, including DoC support (as mod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and build LinuxBIOS, a patched kernel (working, not latest), and MTD utilities (“erase”, “flash_on”). NB: source code changes may b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power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move the BIOS chip from ZIF and insert the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LinuxBIOS into DoC using the “burn_mtd”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 (through power cycle) while saying the appropriate prayers to root (“Root, G-d, what is difference?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D5EE-6235-41B7-BF4B-0D4356037C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2:24:22Z</dcterms:created>
  <dc:creator>Oleg Goldshmidt</dc:creator>
  <dc:description/>
  <dc:language>en-US</dc:language>
  <cp:lastModifiedBy>Oleg Goldshmidt</cp:lastModifiedBy>
  <dcterms:modified xsi:type="dcterms:W3CDTF">2004-09-27T14:21:29Z</dcterms:modified>
  <cp:revision>183</cp:revision>
  <dc:subject/>
  <dc:title>IP Network Client Blade</dc:title>
</cp:coreProperties>
</file>