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10080625" cy="7559675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1072800" y="4414320"/>
            <a:ext cx="4792680" cy="35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1146600" y="705240"/>
            <a:ext cx="463968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325520" y="892080"/>
            <a:ext cx="4283280" cy="32115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1072800" y="4414320"/>
            <a:ext cx="4792680" cy="35658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arts: theoretical (basics) &amp; technical ( overview of different system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325520" y="892080"/>
            <a:ext cx="4283280" cy="32115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1072800" y="4414320"/>
            <a:ext cx="4792680" cy="35658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problem: partial differential equation solution. Solution: grid, iterations over dimensions and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325520" y="892080"/>
            <a:ext cx="4283280" cy="32115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072800" y="4414320"/>
            <a:ext cx="4792680" cy="35658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s are taken from “In search of Clusters”, G. Pf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426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2" marL="1295280" indent="-215640">
              <a:lnSpc>
                <a:spcPct val="94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3" marL="1727280" indent="-216000">
              <a:lnSpc>
                <a:spcPct val="94000"/>
              </a:lnSpc>
              <a:spcAft>
                <a:spcPts val="1426"/>
              </a:spcAft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4" marL="2158920" indent="-215640">
              <a:lnSpc>
                <a:spcPct val="94000"/>
              </a:lnSpc>
              <a:spcAft>
                <a:spcPts val="1426"/>
              </a:spcAft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5" marL="2158920" indent="-215640">
              <a:lnSpc>
                <a:spcPct val="94000"/>
              </a:lnSpc>
              <a:spcAft>
                <a:spcPts val="1426"/>
              </a:spcAft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6" marL="2158920" indent="-215640">
              <a:lnSpc>
                <a:spcPct val="94000"/>
              </a:lnSpc>
              <a:spcAft>
                <a:spcPts val="1426"/>
              </a:spcAft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8604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opensce.org/" TargetMode="External"/><Relationship Id="rId2" Type="http://schemas.openxmlformats.org/officeDocument/2006/relationships/hyperlink" Target="http://www.opensce.org/" TargetMode="External"/><Relationship Id="rId3" Type="http://schemas.openxmlformats.org/officeDocument/2006/relationships/hyperlink" Target="http://oscar.sourceforge.net/" TargetMode="External"/><Relationship Id="rId4" Type="http://schemas.openxmlformats.org/officeDocument/2006/relationships/hyperlink" Target="http://oscar.sourceforge.net/" TargetMode="External"/><Relationship Id="rId5" Type="http://schemas.openxmlformats.org/officeDocument/2006/relationships/hyperlink" Target="http://www.rocksclusters.org/" TargetMode="External"/><Relationship Id="rId6" Type="http://schemas.openxmlformats.org/officeDocument/2006/relationships/hyperlink" Target="http://www.rocksclusters.org/" TargetMode="External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discolab.rutgers.edu/projects/dsm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hpc.devchannel.org/" TargetMode="External"/><Relationship Id="rId2" Type="http://schemas.openxmlformats.org/officeDocument/2006/relationships/hyperlink" Target="http://hpc.devchannel.org/" TargetMode="External"/><Relationship Id="rId3" Type="http://schemas.openxmlformats.org/officeDocument/2006/relationships/hyperlink" Target="http://hpc.devchannel.org/" TargetMode="External"/><Relationship Id="rId4" Type="http://schemas.openxmlformats.org/officeDocument/2006/relationships/hyperlink" Target="http://hpc.devchannel.org/" TargetMode="External"/><Relationship Id="rId5" Type="http://schemas.openxmlformats.org/officeDocument/2006/relationships/hyperlink" Target="http://hpc.devchannel.org/" TargetMode="External"/><Relationship Id="rId6" Type="http://schemas.openxmlformats.org/officeDocument/2006/relationships/hyperlink" Target="http://hpc.devchannel.org/" TargetMode="External"/><Relationship Id="rId7" Type="http://schemas.openxmlformats.org/officeDocument/2006/relationships/hyperlink" Target="http://hpc.devchannel.org/" TargetMode="External"/><Relationship Id="rId8" Type="http://schemas.openxmlformats.org/officeDocument/2006/relationships/hyperlink" Target="http://sourceforge.net/" TargetMode="External"/><Relationship Id="rId9" Type="http://schemas.openxmlformats.org/officeDocument/2006/relationships/hyperlink" Target="http://www.clustercomputing.org/" TargetMode="External"/><Relationship Id="rId10" Type="http://schemas.openxmlformats.org/officeDocument/2006/relationships/hyperlink" Target="http://www.linuxclustersinstitute.org/" TargetMode="External"/><Relationship Id="rId11" Type="http://schemas.openxmlformats.org/officeDocument/2006/relationships/hyperlink" Target="http://www.cs.mu.oz.au/~raj" TargetMode="External"/><Relationship Id="rId12" Type="http://schemas.openxmlformats.org/officeDocument/2006/relationships/hyperlink" Target="http://dsonline.computer.org/" TargetMode="External"/><Relationship Id="rId13" Type="http://schemas.openxmlformats.org/officeDocument/2006/relationships/hyperlink" Target="http://www.topclusters.org/" TargetMode="External"/><Relationship Id="rId14" Type="http://schemas.openxmlformats.org/officeDocument/2006/relationships/hyperlink" Target="http://www.topclusters.org/" TargetMode="External"/><Relationship Id="rId1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96680" y="1176480"/>
            <a:ext cx="856908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Times New Roman"/>
              </a:rPr>
              <a:t>High Performance Computing</a:t>
            </a:r>
            <a:br>
              <a:rPr sz="3600"/>
            </a:br>
            <a:r>
              <a:rPr b="0" lang="en-GB" sz="3600" spc="-1" strike="noStrike">
                <a:solidFill>
                  <a:srgbClr val="ffff66"/>
                </a:solidFill>
                <a:latin typeface="Times New Roman"/>
              </a:rPr>
              <a:t> with Linux cluster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67920" y="282384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Mark Silberstein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arks@tx.technion.ac.il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84440" y="3981600"/>
            <a:ext cx="7686720" cy="334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043760" y="3306600"/>
            <a:ext cx="21319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ion 9.12.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39160" y="2978280"/>
            <a:ext cx="27414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Haifux Linux Cl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52400" y="187200"/>
            <a:ext cx="86076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6160" y="1638360"/>
            <a:ext cx="86090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High performance comp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ffff66"/>
              </a:buClr>
              <a:buSzPct val="90000"/>
              <a:buFont typeface="Wingdings" charset="2"/>
              <a:buChar char="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troduction into Parallel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Hardw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lanning ,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nstallation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&amp;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luster glue – cluster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iddleware and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86040" cy="971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263600" y="5473800"/>
            <a:ext cx="73249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rial man” ques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 bought dual CPU system, but my MineSweeper does not work faster!!! Why?”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lusters..., ha-ha..., does not help! My two machines are connected together for years, but my Matlab simulation does not run faster if I turn on the second”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Great! Such a pitty that I bought $1M SGI Onix!”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31920" y="1994040"/>
            <a:ext cx="9104040" cy="4378320"/>
          </a:xfrm>
          <a:prstGeom prst="roundRect">
            <a:avLst>
              <a:gd name="adj" fmla="val 3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84440" y="4778280"/>
            <a:ext cx="6518160" cy="787320"/>
          </a:xfrm>
          <a:prstGeom prst="roundRect">
            <a:avLst>
              <a:gd name="adj" fmla="val 199"/>
            </a:avLst>
          </a:prstGeom>
          <a:solidFill>
            <a:srgbClr val="fc0128">
              <a:alpha val="50000"/>
            </a:srgbClr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063880" y="5172120"/>
            <a:ext cx="311040" cy="260280"/>
            <a:chOff x="2063880" y="5172120"/>
            <a:chExt cx="311040" cy="260280"/>
          </a:xfrm>
        </p:grpSpPr>
        <p:sp>
          <p:nvSpPr>
            <p:cNvPr id="85" name=""/>
            <p:cNvSpPr/>
            <p:nvPr/>
          </p:nvSpPr>
          <p:spPr>
            <a:xfrm>
              <a:off x="2063880" y="5172120"/>
              <a:ext cx="311040" cy="2602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81160" y="5181480"/>
              <a:ext cx="2743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654360" y="5172120"/>
            <a:ext cx="316080" cy="260280"/>
            <a:chOff x="3654360" y="5172120"/>
            <a:chExt cx="316080" cy="260280"/>
          </a:xfrm>
        </p:grpSpPr>
        <p:sp>
          <p:nvSpPr>
            <p:cNvPr id="88" name=""/>
            <p:cNvSpPr/>
            <p:nvPr/>
          </p:nvSpPr>
          <p:spPr>
            <a:xfrm>
              <a:off x="3654360" y="5172120"/>
              <a:ext cx="316080" cy="2602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75240" y="5181480"/>
              <a:ext cx="2743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851200" y="5172120"/>
            <a:ext cx="315720" cy="260280"/>
            <a:chOff x="2851200" y="5172120"/>
            <a:chExt cx="315720" cy="260280"/>
          </a:xfrm>
        </p:grpSpPr>
        <p:sp>
          <p:nvSpPr>
            <p:cNvPr id="91" name=""/>
            <p:cNvSpPr/>
            <p:nvPr/>
          </p:nvSpPr>
          <p:spPr>
            <a:xfrm>
              <a:off x="2851200" y="5172120"/>
              <a:ext cx="315720" cy="2602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71720" y="5181480"/>
              <a:ext cx="2743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500720" y="5172120"/>
            <a:ext cx="314280" cy="260280"/>
            <a:chOff x="4500720" y="5172120"/>
            <a:chExt cx="314280" cy="260280"/>
          </a:xfrm>
        </p:grpSpPr>
        <p:sp>
          <p:nvSpPr>
            <p:cNvPr id="94" name=""/>
            <p:cNvSpPr/>
            <p:nvPr/>
          </p:nvSpPr>
          <p:spPr>
            <a:xfrm>
              <a:off x="4500720" y="5172120"/>
              <a:ext cx="314280" cy="2602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21240" y="5181480"/>
              <a:ext cx="2743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511960" y="5172120"/>
            <a:ext cx="312480" cy="260280"/>
            <a:chOff x="5511960" y="5172120"/>
            <a:chExt cx="312480" cy="260280"/>
          </a:xfrm>
        </p:grpSpPr>
        <p:sp>
          <p:nvSpPr>
            <p:cNvPr id="97" name=""/>
            <p:cNvSpPr/>
            <p:nvPr/>
          </p:nvSpPr>
          <p:spPr>
            <a:xfrm>
              <a:off x="5511960" y="5172120"/>
              <a:ext cx="312480" cy="2602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30680" y="5181480"/>
              <a:ext cx="2743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7273800" y="5172120"/>
            <a:ext cx="309600" cy="260280"/>
            <a:chOff x="7273800" y="5172120"/>
            <a:chExt cx="309600" cy="260280"/>
          </a:xfrm>
        </p:grpSpPr>
        <p:sp>
          <p:nvSpPr>
            <p:cNvPr id="100" name=""/>
            <p:cNvSpPr/>
            <p:nvPr/>
          </p:nvSpPr>
          <p:spPr>
            <a:xfrm>
              <a:off x="7273800" y="5172120"/>
              <a:ext cx="309600" cy="2602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91080" y="5181480"/>
              <a:ext cx="2743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375240" y="4879800"/>
            <a:ext cx="474840" cy="403200"/>
            <a:chOff x="6375240" y="4879800"/>
            <a:chExt cx="474840" cy="403200"/>
          </a:xfrm>
        </p:grpSpPr>
        <p:sp>
          <p:nvSpPr>
            <p:cNvPr id="103" name=""/>
            <p:cNvSpPr/>
            <p:nvPr/>
          </p:nvSpPr>
          <p:spPr>
            <a:xfrm>
              <a:off x="6375240" y="4879800"/>
              <a:ext cx="3668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ts val="2475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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83240" y="4879800"/>
              <a:ext cx="3668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ts val="2475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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683320" y="5845320"/>
            <a:ext cx="167004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spcBef>
                <a:spcPts val="1111"/>
              </a:spcBef>
              <a:tabLst>
                <a:tab algn="l" pos="0"/>
                <a:tab algn="l" pos="723960"/>
                <a:tab algn="l" pos="14479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130120" y="5697360"/>
            <a:ext cx="3481560" cy="507600"/>
            <a:chOff x="2130120" y="5697360"/>
            <a:chExt cx="3481560" cy="507600"/>
          </a:xfrm>
        </p:grpSpPr>
        <p:sp>
          <p:nvSpPr>
            <p:cNvPr id="107" name=""/>
            <p:cNvSpPr/>
            <p:nvPr/>
          </p:nvSpPr>
          <p:spPr>
            <a:xfrm>
              <a:off x="5389560" y="5842080"/>
              <a:ext cx="222120" cy="2300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73200" y="5842080"/>
              <a:ext cx="1909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7000"/>
                </a:lnSpc>
                <a:spcBef>
                  <a:spcPts val="1111"/>
                </a:spcBef>
                <a:tabLst>
                  <a:tab algn="l" pos="0"/>
                  <a:tab algn="l" pos="723960"/>
                  <a:tab algn="l" pos="144792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cess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51280" y="5767560"/>
              <a:ext cx="117360" cy="279360"/>
            </a:xfrm>
            <a:custGeom>
              <a:avLst/>
              <a:gdLst/>
              <a:ahLst/>
              <a:rect l="l" t="t" r="r" b="b"/>
              <a:pathLst>
                <a:path w="328" h="777">
                  <a:moveTo>
                    <a:pt x="216" y="0"/>
                  </a:moveTo>
                  <a:lnTo>
                    <a:pt x="181" y="75"/>
                  </a:lnTo>
                  <a:lnTo>
                    <a:pt x="70" y="92"/>
                  </a:lnTo>
                  <a:lnTo>
                    <a:pt x="0" y="150"/>
                  </a:lnTo>
                  <a:lnTo>
                    <a:pt x="0" y="207"/>
                  </a:lnTo>
                  <a:lnTo>
                    <a:pt x="110" y="247"/>
                  </a:lnTo>
                  <a:lnTo>
                    <a:pt x="216" y="264"/>
                  </a:lnTo>
                  <a:lnTo>
                    <a:pt x="292" y="322"/>
                  </a:lnTo>
                  <a:lnTo>
                    <a:pt x="327" y="379"/>
                  </a:lnTo>
                  <a:lnTo>
                    <a:pt x="292" y="436"/>
                  </a:lnTo>
                  <a:lnTo>
                    <a:pt x="181" y="472"/>
                  </a:lnTo>
                  <a:lnTo>
                    <a:pt x="70" y="511"/>
                  </a:lnTo>
                  <a:lnTo>
                    <a:pt x="35" y="569"/>
                  </a:lnTo>
                  <a:lnTo>
                    <a:pt x="0" y="626"/>
                  </a:lnTo>
                  <a:lnTo>
                    <a:pt x="0" y="683"/>
                  </a:lnTo>
                  <a:lnTo>
                    <a:pt x="110" y="719"/>
                  </a:lnTo>
                  <a:lnTo>
                    <a:pt x="216" y="736"/>
                  </a:lnTo>
                  <a:lnTo>
                    <a:pt x="327" y="776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03560" y="5850000"/>
              <a:ext cx="114156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7000"/>
                </a:lnSpc>
                <a:spcBef>
                  <a:spcPts val="1111"/>
                </a:spcBef>
                <a:tabLst>
                  <a:tab algn="l" pos="0"/>
                  <a:tab algn="l" pos="72396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re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130120" y="5697360"/>
              <a:ext cx="321480" cy="463680"/>
              <a:chOff x="2130120" y="5697360"/>
              <a:chExt cx="321480" cy="463680"/>
            </a:xfrm>
          </p:grpSpPr>
          <p:sp>
            <p:nvSpPr>
              <p:cNvPr id="112" name=""/>
              <p:cNvSpPr/>
              <p:nvPr/>
            </p:nvSpPr>
            <p:spPr>
              <a:xfrm>
                <a:off x="2133720" y="5697360"/>
                <a:ext cx="314280" cy="463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fc012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130120" y="5769360"/>
                <a:ext cx="32148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 algn="ctr">
                  <a:lnSpc>
                    <a:spcPct val="83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" name=""/>
          <p:cNvSpPr/>
          <p:nvPr/>
        </p:nvSpPr>
        <p:spPr>
          <a:xfrm>
            <a:off x="1930320" y="2516040"/>
            <a:ext cx="6318360" cy="1230480"/>
          </a:xfrm>
          <a:prstGeom prst="roundRect">
            <a:avLst>
              <a:gd name="adj" fmla="val 12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136600" y="2706840"/>
            <a:ext cx="777960" cy="865080"/>
            <a:chOff x="2136600" y="2706840"/>
            <a:chExt cx="777960" cy="865080"/>
          </a:xfrm>
        </p:grpSpPr>
        <p:sp>
          <p:nvSpPr>
            <p:cNvPr id="116" name=""/>
            <p:cNvSpPr/>
            <p:nvPr/>
          </p:nvSpPr>
          <p:spPr>
            <a:xfrm>
              <a:off x="2136600" y="2706840"/>
              <a:ext cx="777960" cy="865080"/>
            </a:xfrm>
            <a:custGeom>
              <a:avLst/>
              <a:gdLst>
                <a:gd name="textAreaLeft" fmla="*/ 360 w 777960"/>
                <a:gd name="textAreaRight" fmla="*/ 777600 w 777960"/>
                <a:gd name="textAreaTop" fmla="*/ 360 h 865080"/>
                <a:gd name="textAreaBottom" fmla="*/ 864720 h 865080"/>
              </a:gdLst>
              <a:ahLst/>
              <a:rect l="textAreaLeft" t="textAreaTop" r="textAreaRight" b="textAreaBottom"/>
              <a:pathLst>
                <a:path w="21600" h="24018">
                  <a:moveTo>
                    <a:pt x="44" y="0"/>
                  </a:moveTo>
                  <a:arcTo wR="44" hR="44" stAng="16200000" swAng="-5400000"/>
                  <a:lnTo>
                    <a:pt x="0" y="23974"/>
                  </a:lnTo>
                  <a:arcTo wR="44" hR="44" stAng="10800000" swAng="-5400000"/>
                  <a:lnTo>
                    <a:pt x="21556" y="24018"/>
                  </a:lnTo>
                  <a:arcTo wR="44" hR="44" stAng="5400000" swAng="-5400000"/>
                  <a:lnTo>
                    <a:pt x="21600" y="44"/>
                  </a:lnTo>
                  <a:arcTo wR="44" hR="44" stAng="0" swAng="-5400000"/>
                  <a:close/>
                </a:path>
              </a:pathLst>
            </a:custGeom>
            <a:gradFill rotWithShape="0">
              <a:gsLst>
                <a:gs pos="0">
                  <a:srgbClr val="fb4c67"/>
                </a:gs>
                <a:gs pos="100000">
                  <a:srgbClr val="fc0128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52680" y="3263760"/>
              <a:ext cx="223920" cy="2257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525760" y="2820960"/>
              <a:ext cx="77760" cy="428400"/>
              <a:chOff x="2525760" y="2820960"/>
              <a:chExt cx="77760" cy="428400"/>
            </a:xfrm>
          </p:grpSpPr>
          <p:sp>
            <p:nvSpPr>
              <p:cNvPr id="119" name=""/>
              <p:cNvSpPr/>
              <p:nvPr/>
            </p:nvSpPr>
            <p:spPr>
              <a:xfrm>
                <a:off x="2563200" y="3025080"/>
                <a:ext cx="1080" cy="22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525760" y="2820960"/>
                <a:ext cx="77760" cy="158040"/>
              </a:xfrm>
              <a:custGeom>
                <a:avLst/>
                <a:gdLst/>
                <a:ahLst/>
                <a:rect l="l" t="t" r="r" b="b"/>
                <a:pathLst>
                  <a:path w="222" h="443">
                    <a:moveTo>
                      <a:pt x="149" y="0"/>
                    </a:moveTo>
                    <a:lnTo>
                      <a:pt x="121" y="44"/>
                    </a:lnTo>
                    <a:lnTo>
                      <a:pt x="49" y="53"/>
                    </a:lnTo>
                    <a:lnTo>
                      <a:pt x="0" y="88"/>
                    </a:lnTo>
                    <a:lnTo>
                      <a:pt x="0" y="119"/>
                    </a:lnTo>
                    <a:lnTo>
                      <a:pt x="72" y="141"/>
                    </a:lnTo>
                    <a:lnTo>
                      <a:pt x="149" y="150"/>
                    </a:lnTo>
                    <a:lnTo>
                      <a:pt x="199" y="181"/>
                    </a:lnTo>
                    <a:lnTo>
                      <a:pt x="221" y="216"/>
                    </a:lnTo>
                    <a:lnTo>
                      <a:pt x="199" y="247"/>
                    </a:lnTo>
                    <a:lnTo>
                      <a:pt x="121" y="269"/>
                    </a:lnTo>
                    <a:lnTo>
                      <a:pt x="49" y="292"/>
                    </a:lnTo>
                    <a:lnTo>
                      <a:pt x="22" y="323"/>
                    </a:lnTo>
                    <a:lnTo>
                      <a:pt x="0" y="354"/>
                    </a:lnTo>
                    <a:lnTo>
                      <a:pt x="0" y="389"/>
                    </a:lnTo>
                    <a:lnTo>
                      <a:pt x="72" y="411"/>
                    </a:lnTo>
                    <a:lnTo>
                      <a:pt x="149" y="420"/>
                    </a:lnTo>
                    <a:lnTo>
                      <a:pt x="221" y="442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"/>
          <p:cNvSpPr/>
          <p:nvPr/>
        </p:nvSpPr>
        <p:spPr>
          <a:xfrm>
            <a:off x="4313160" y="3056040"/>
            <a:ext cx="0" cy="22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336840" y="2706840"/>
            <a:ext cx="1235160" cy="895320"/>
            <a:chOff x="3336840" y="2706840"/>
            <a:chExt cx="1235160" cy="895320"/>
          </a:xfrm>
        </p:grpSpPr>
        <p:sp>
          <p:nvSpPr>
            <p:cNvPr id="123" name=""/>
            <p:cNvSpPr/>
            <p:nvPr/>
          </p:nvSpPr>
          <p:spPr>
            <a:xfrm>
              <a:off x="3336840" y="2706840"/>
              <a:ext cx="1235160" cy="895320"/>
            </a:xfrm>
            <a:prstGeom prst="roundRect">
              <a:avLst>
                <a:gd name="adj" fmla="val 176"/>
              </a:avLst>
            </a:prstGeom>
            <a:gradFill rotWithShape="0">
              <a:gsLst>
                <a:gs pos="0">
                  <a:srgbClr val="fb4c67"/>
                </a:gs>
                <a:gs pos="100000">
                  <a:srgbClr val="fc0128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02280" y="3294000"/>
              <a:ext cx="222120" cy="225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73560" y="2851200"/>
              <a:ext cx="77760" cy="158760"/>
            </a:xfrm>
            <a:custGeom>
              <a:avLst/>
              <a:gdLst/>
              <a:ahLst/>
              <a:rect l="l" t="t" r="r" b="b"/>
              <a:pathLst>
                <a:path w="217" h="442">
                  <a:moveTo>
                    <a:pt x="145" y="0"/>
                  </a:moveTo>
                  <a:lnTo>
                    <a:pt x="119" y="44"/>
                  </a:lnTo>
                  <a:lnTo>
                    <a:pt x="48" y="52"/>
                  </a:lnTo>
                  <a:lnTo>
                    <a:pt x="0" y="88"/>
                  </a:lnTo>
                  <a:lnTo>
                    <a:pt x="0" y="119"/>
                  </a:lnTo>
                  <a:lnTo>
                    <a:pt x="70" y="141"/>
                  </a:lnTo>
                  <a:lnTo>
                    <a:pt x="145" y="150"/>
                  </a:lnTo>
                  <a:lnTo>
                    <a:pt x="194" y="181"/>
                  </a:lnTo>
                  <a:lnTo>
                    <a:pt x="216" y="216"/>
                  </a:lnTo>
                  <a:lnTo>
                    <a:pt x="194" y="247"/>
                  </a:lnTo>
                  <a:lnTo>
                    <a:pt x="119" y="269"/>
                  </a:lnTo>
                  <a:lnTo>
                    <a:pt x="48" y="291"/>
                  </a:lnTo>
                  <a:lnTo>
                    <a:pt x="22" y="322"/>
                  </a:lnTo>
                  <a:lnTo>
                    <a:pt x="0" y="353"/>
                  </a:lnTo>
                  <a:lnTo>
                    <a:pt x="0" y="388"/>
                  </a:lnTo>
                  <a:lnTo>
                    <a:pt x="70" y="410"/>
                  </a:lnTo>
                  <a:lnTo>
                    <a:pt x="145" y="419"/>
                  </a:lnTo>
                  <a:lnTo>
                    <a:pt x="216" y="44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75160" y="3294000"/>
              <a:ext cx="220680" cy="225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0520" y="2851200"/>
              <a:ext cx="81000" cy="158760"/>
            </a:xfrm>
            <a:custGeom>
              <a:avLst/>
              <a:gdLst/>
              <a:ahLst/>
              <a:rect l="l" t="t" r="r" b="b"/>
              <a:pathLst>
                <a:path w="222" h="442">
                  <a:moveTo>
                    <a:pt x="146" y="0"/>
                  </a:moveTo>
                  <a:lnTo>
                    <a:pt x="124" y="44"/>
                  </a:lnTo>
                  <a:lnTo>
                    <a:pt x="48" y="52"/>
                  </a:lnTo>
                  <a:lnTo>
                    <a:pt x="0" y="88"/>
                  </a:lnTo>
                  <a:lnTo>
                    <a:pt x="0" y="119"/>
                  </a:lnTo>
                  <a:lnTo>
                    <a:pt x="75" y="141"/>
                  </a:lnTo>
                  <a:lnTo>
                    <a:pt x="146" y="150"/>
                  </a:lnTo>
                  <a:lnTo>
                    <a:pt x="194" y="181"/>
                  </a:lnTo>
                  <a:lnTo>
                    <a:pt x="221" y="216"/>
                  </a:lnTo>
                  <a:lnTo>
                    <a:pt x="194" y="247"/>
                  </a:lnTo>
                  <a:lnTo>
                    <a:pt x="124" y="269"/>
                  </a:lnTo>
                  <a:lnTo>
                    <a:pt x="48" y="291"/>
                  </a:lnTo>
                  <a:lnTo>
                    <a:pt x="26" y="322"/>
                  </a:lnTo>
                  <a:lnTo>
                    <a:pt x="0" y="353"/>
                  </a:lnTo>
                  <a:lnTo>
                    <a:pt x="0" y="388"/>
                  </a:lnTo>
                  <a:lnTo>
                    <a:pt x="75" y="410"/>
                  </a:lnTo>
                  <a:lnTo>
                    <a:pt x="146" y="419"/>
                  </a:lnTo>
                  <a:lnTo>
                    <a:pt x="221" y="44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87680" y="2851200"/>
              <a:ext cx="81000" cy="158760"/>
            </a:xfrm>
            <a:custGeom>
              <a:avLst/>
              <a:gdLst/>
              <a:ahLst/>
              <a:rect l="l" t="t" r="r" b="b"/>
              <a:pathLst>
                <a:path w="226" h="442">
                  <a:moveTo>
                    <a:pt x="150" y="0"/>
                  </a:moveTo>
                  <a:lnTo>
                    <a:pt x="123" y="44"/>
                  </a:lnTo>
                  <a:lnTo>
                    <a:pt x="48" y="52"/>
                  </a:lnTo>
                  <a:lnTo>
                    <a:pt x="0" y="88"/>
                  </a:lnTo>
                  <a:lnTo>
                    <a:pt x="0" y="119"/>
                  </a:lnTo>
                  <a:lnTo>
                    <a:pt x="75" y="141"/>
                  </a:lnTo>
                  <a:lnTo>
                    <a:pt x="150" y="150"/>
                  </a:lnTo>
                  <a:lnTo>
                    <a:pt x="199" y="181"/>
                  </a:lnTo>
                  <a:lnTo>
                    <a:pt x="225" y="216"/>
                  </a:lnTo>
                  <a:lnTo>
                    <a:pt x="199" y="247"/>
                  </a:lnTo>
                  <a:lnTo>
                    <a:pt x="123" y="269"/>
                  </a:lnTo>
                  <a:lnTo>
                    <a:pt x="48" y="291"/>
                  </a:lnTo>
                  <a:lnTo>
                    <a:pt x="26" y="322"/>
                  </a:lnTo>
                  <a:lnTo>
                    <a:pt x="0" y="353"/>
                  </a:lnTo>
                  <a:lnTo>
                    <a:pt x="0" y="388"/>
                  </a:lnTo>
                  <a:lnTo>
                    <a:pt x="75" y="410"/>
                  </a:lnTo>
                  <a:lnTo>
                    <a:pt x="150" y="419"/>
                  </a:lnTo>
                  <a:lnTo>
                    <a:pt x="225" y="44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3575160" y="3056040"/>
            <a:ext cx="64800" cy="22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714840" y="3056040"/>
            <a:ext cx="95040" cy="22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91040" y="3056040"/>
            <a:ext cx="65160" cy="22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035760" y="3056040"/>
            <a:ext cx="92160" cy="22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1040" y="3056040"/>
            <a:ext cx="66600" cy="22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403960" y="3056040"/>
            <a:ext cx="95040" cy="22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994280" y="2706840"/>
            <a:ext cx="1276200" cy="895320"/>
            <a:chOff x="4994280" y="2706840"/>
            <a:chExt cx="1276200" cy="895320"/>
          </a:xfrm>
        </p:grpSpPr>
        <p:sp>
          <p:nvSpPr>
            <p:cNvPr id="136" name=""/>
            <p:cNvSpPr/>
            <p:nvPr/>
          </p:nvSpPr>
          <p:spPr>
            <a:xfrm>
              <a:off x="4994280" y="2706840"/>
              <a:ext cx="1276200" cy="895320"/>
            </a:xfrm>
            <a:prstGeom prst="roundRect">
              <a:avLst>
                <a:gd name="adj" fmla="val 176"/>
              </a:avLst>
            </a:prstGeom>
            <a:gradFill rotWithShape="0">
              <a:gsLst>
                <a:gs pos="0">
                  <a:srgbClr val="fb4c67"/>
                </a:gs>
                <a:gs pos="100000">
                  <a:srgbClr val="fc0128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19640" y="2851200"/>
              <a:ext cx="79560" cy="158760"/>
            </a:xfrm>
            <a:custGeom>
              <a:avLst/>
              <a:gdLst/>
              <a:ahLst/>
              <a:rect l="l" t="t" r="r" b="b"/>
              <a:pathLst>
                <a:path w="222" h="442">
                  <a:moveTo>
                    <a:pt x="146" y="0"/>
                  </a:moveTo>
                  <a:lnTo>
                    <a:pt x="124" y="44"/>
                  </a:lnTo>
                  <a:lnTo>
                    <a:pt x="48" y="52"/>
                  </a:lnTo>
                  <a:lnTo>
                    <a:pt x="0" y="88"/>
                  </a:lnTo>
                  <a:lnTo>
                    <a:pt x="0" y="119"/>
                  </a:lnTo>
                  <a:lnTo>
                    <a:pt x="75" y="141"/>
                  </a:lnTo>
                  <a:lnTo>
                    <a:pt x="146" y="150"/>
                  </a:lnTo>
                  <a:lnTo>
                    <a:pt x="194" y="181"/>
                  </a:lnTo>
                  <a:lnTo>
                    <a:pt x="221" y="216"/>
                  </a:lnTo>
                  <a:lnTo>
                    <a:pt x="194" y="247"/>
                  </a:lnTo>
                  <a:lnTo>
                    <a:pt x="124" y="269"/>
                  </a:lnTo>
                  <a:lnTo>
                    <a:pt x="48" y="291"/>
                  </a:lnTo>
                  <a:lnTo>
                    <a:pt x="26" y="322"/>
                  </a:lnTo>
                  <a:lnTo>
                    <a:pt x="0" y="353"/>
                  </a:lnTo>
                  <a:lnTo>
                    <a:pt x="0" y="388"/>
                  </a:lnTo>
                  <a:lnTo>
                    <a:pt x="75" y="410"/>
                  </a:lnTo>
                  <a:lnTo>
                    <a:pt x="146" y="419"/>
                  </a:lnTo>
                  <a:lnTo>
                    <a:pt x="221" y="44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05360" y="2851200"/>
              <a:ext cx="79560" cy="158760"/>
            </a:xfrm>
            <a:custGeom>
              <a:avLst/>
              <a:gdLst/>
              <a:ahLst/>
              <a:rect l="l" t="t" r="r" b="b"/>
              <a:pathLst>
                <a:path w="222" h="442">
                  <a:moveTo>
                    <a:pt x="146" y="0"/>
                  </a:moveTo>
                  <a:lnTo>
                    <a:pt x="124" y="44"/>
                  </a:lnTo>
                  <a:lnTo>
                    <a:pt x="48" y="52"/>
                  </a:lnTo>
                  <a:lnTo>
                    <a:pt x="0" y="88"/>
                  </a:lnTo>
                  <a:lnTo>
                    <a:pt x="0" y="119"/>
                  </a:lnTo>
                  <a:lnTo>
                    <a:pt x="75" y="141"/>
                  </a:lnTo>
                  <a:lnTo>
                    <a:pt x="146" y="150"/>
                  </a:lnTo>
                  <a:lnTo>
                    <a:pt x="194" y="181"/>
                  </a:lnTo>
                  <a:lnTo>
                    <a:pt x="221" y="216"/>
                  </a:lnTo>
                  <a:lnTo>
                    <a:pt x="194" y="247"/>
                  </a:lnTo>
                  <a:lnTo>
                    <a:pt x="124" y="269"/>
                  </a:lnTo>
                  <a:lnTo>
                    <a:pt x="48" y="291"/>
                  </a:lnTo>
                  <a:lnTo>
                    <a:pt x="26" y="322"/>
                  </a:lnTo>
                  <a:lnTo>
                    <a:pt x="0" y="353"/>
                  </a:lnTo>
                  <a:lnTo>
                    <a:pt x="0" y="388"/>
                  </a:lnTo>
                  <a:lnTo>
                    <a:pt x="75" y="410"/>
                  </a:lnTo>
                  <a:lnTo>
                    <a:pt x="146" y="419"/>
                  </a:lnTo>
                  <a:lnTo>
                    <a:pt x="221" y="44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61040" y="3294000"/>
              <a:ext cx="223920" cy="225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91080" y="2851200"/>
              <a:ext cx="76320" cy="158760"/>
            </a:xfrm>
            <a:custGeom>
              <a:avLst/>
              <a:gdLst/>
              <a:ahLst/>
              <a:rect l="l" t="t" r="r" b="b"/>
              <a:pathLst>
                <a:path w="213" h="442">
                  <a:moveTo>
                    <a:pt x="141" y="0"/>
                  </a:moveTo>
                  <a:lnTo>
                    <a:pt x="119" y="44"/>
                  </a:lnTo>
                  <a:lnTo>
                    <a:pt x="48" y="52"/>
                  </a:lnTo>
                  <a:lnTo>
                    <a:pt x="0" y="88"/>
                  </a:lnTo>
                  <a:lnTo>
                    <a:pt x="0" y="119"/>
                  </a:lnTo>
                  <a:lnTo>
                    <a:pt x="70" y="141"/>
                  </a:lnTo>
                  <a:lnTo>
                    <a:pt x="141" y="150"/>
                  </a:lnTo>
                  <a:lnTo>
                    <a:pt x="190" y="181"/>
                  </a:lnTo>
                  <a:lnTo>
                    <a:pt x="212" y="216"/>
                  </a:lnTo>
                  <a:lnTo>
                    <a:pt x="190" y="247"/>
                  </a:lnTo>
                  <a:lnTo>
                    <a:pt x="119" y="269"/>
                  </a:lnTo>
                  <a:lnTo>
                    <a:pt x="48" y="291"/>
                  </a:lnTo>
                  <a:lnTo>
                    <a:pt x="22" y="322"/>
                  </a:lnTo>
                  <a:lnTo>
                    <a:pt x="0" y="353"/>
                  </a:lnTo>
                  <a:lnTo>
                    <a:pt x="0" y="388"/>
                  </a:lnTo>
                  <a:lnTo>
                    <a:pt x="70" y="410"/>
                  </a:lnTo>
                  <a:lnTo>
                    <a:pt x="141" y="419"/>
                  </a:lnTo>
                  <a:lnTo>
                    <a:pt x="212" y="44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78600" y="2851200"/>
              <a:ext cx="74520" cy="158760"/>
            </a:xfrm>
            <a:custGeom>
              <a:avLst/>
              <a:gdLst/>
              <a:ahLst/>
              <a:rect l="l" t="t" r="r" b="b"/>
              <a:pathLst>
                <a:path w="213" h="442">
                  <a:moveTo>
                    <a:pt x="141" y="0"/>
                  </a:moveTo>
                  <a:lnTo>
                    <a:pt x="119" y="44"/>
                  </a:lnTo>
                  <a:lnTo>
                    <a:pt x="48" y="52"/>
                  </a:lnTo>
                  <a:lnTo>
                    <a:pt x="0" y="88"/>
                  </a:lnTo>
                  <a:lnTo>
                    <a:pt x="0" y="119"/>
                  </a:lnTo>
                  <a:lnTo>
                    <a:pt x="70" y="141"/>
                  </a:lnTo>
                  <a:lnTo>
                    <a:pt x="141" y="150"/>
                  </a:lnTo>
                  <a:lnTo>
                    <a:pt x="190" y="181"/>
                  </a:lnTo>
                  <a:lnTo>
                    <a:pt x="212" y="216"/>
                  </a:lnTo>
                  <a:lnTo>
                    <a:pt x="190" y="247"/>
                  </a:lnTo>
                  <a:lnTo>
                    <a:pt x="119" y="269"/>
                  </a:lnTo>
                  <a:lnTo>
                    <a:pt x="48" y="291"/>
                  </a:lnTo>
                  <a:lnTo>
                    <a:pt x="22" y="322"/>
                  </a:lnTo>
                  <a:lnTo>
                    <a:pt x="0" y="353"/>
                  </a:lnTo>
                  <a:lnTo>
                    <a:pt x="0" y="388"/>
                  </a:lnTo>
                  <a:lnTo>
                    <a:pt x="70" y="410"/>
                  </a:lnTo>
                  <a:lnTo>
                    <a:pt x="141" y="419"/>
                  </a:lnTo>
                  <a:lnTo>
                    <a:pt x="212" y="44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34120" y="2851200"/>
              <a:ext cx="77760" cy="158760"/>
            </a:xfrm>
            <a:custGeom>
              <a:avLst/>
              <a:gdLst/>
              <a:ahLst/>
              <a:rect l="l" t="t" r="r" b="b"/>
              <a:pathLst>
                <a:path w="218" h="442">
                  <a:moveTo>
                    <a:pt x="146" y="0"/>
                  </a:moveTo>
                  <a:lnTo>
                    <a:pt x="119" y="44"/>
                  </a:lnTo>
                  <a:lnTo>
                    <a:pt x="48" y="52"/>
                  </a:lnTo>
                  <a:lnTo>
                    <a:pt x="0" y="88"/>
                  </a:lnTo>
                  <a:lnTo>
                    <a:pt x="0" y="119"/>
                  </a:lnTo>
                  <a:lnTo>
                    <a:pt x="71" y="141"/>
                  </a:lnTo>
                  <a:lnTo>
                    <a:pt x="146" y="150"/>
                  </a:lnTo>
                  <a:lnTo>
                    <a:pt x="195" y="181"/>
                  </a:lnTo>
                  <a:lnTo>
                    <a:pt x="217" y="216"/>
                  </a:lnTo>
                  <a:lnTo>
                    <a:pt x="195" y="247"/>
                  </a:lnTo>
                  <a:lnTo>
                    <a:pt x="119" y="269"/>
                  </a:lnTo>
                  <a:lnTo>
                    <a:pt x="48" y="291"/>
                  </a:lnTo>
                  <a:lnTo>
                    <a:pt x="22" y="322"/>
                  </a:lnTo>
                  <a:lnTo>
                    <a:pt x="0" y="353"/>
                  </a:lnTo>
                  <a:lnTo>
                    <a:pt x="0" y="388"/>
                  </a:lnTo>
                  <a:lnTo>
                    <a:pt x="71" y="410"/>
                  </a:lnTo>
                  <a:lnTo>
                    <a:pt x="146" y="419"/>
                  </a:lnTo>
                  <a:lnTo>
                    <a:pt x="217" y="44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5200" y="3290760"/>
              <a:ext cx="223920" cy="2304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 flipV="1">
            <a:off x="2425680" y="3770280"/>
            <a:ext cx="1440" cy="177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03360" y="4005360"/>
            <a:ext cx="108000" cy="199800"/>
          </a:xfrm>
          <a:custGeom>
            <a:avLst/>
            <a:gdLst/>
            <a:ahLst/>
            <a:rect l="l" t="t" r="r" b="b"/>
            <a:pathLst>
              <a:path w="301" h="557">
                <a:moveTo>
                  <a:pt x="198" y="556"/>
                </a:moveTo>
                <a:lnTo>
                  <a:pt x="167" y="503"/>
                </a:lnTo>
                <a:lnTo>
                  <a:pt x="66" y="490"/>
                </a:lnTo>
                <a:lnTo>
                  <a:pt x="0" y="446"/>
                </a:lnTo>
                <a:lnTo>
                  <a:pt x="0" y="406"/>
                </a:lnTo>
                <a:lnTo>
                  <a:pt x="101" y="379"/>
                </a:lnTo>
                <a:lnTo>
                  <a:pt x="198" y="366"/>
                </a:lnTo>
                <a:lnTo>
                  <a:pt x="265" y="326"/>
                </a:lnTo>
                <a:lnTo>
                  <a:pt x="300" y="287"/>
                </a:lnTo>
                <a:lnTo>
                  <a:pt x="265" y="242"/>
                </a:lnTo>
                <a:lnTo>
                  <a:pt x="167" y="216"/>
                </a:lnTo>
                <a:lnTo>
                  <a:pt x="66" y="189"/>
                </a:lnTo>
                <a:lnTo>
                  <a:pt x="35" y="150"/>
                </a:lnTo>
                <a:lnTo>
                  <a:pt x="0" y="110"/>
                </a:lnTo>
                <a:lnTo>
                  <a:pt x="0" y="66"/>
                </a:lnTo>
                <a:lnTo>
                  <a:pt x="101" y="39"/>
                </a:lnTo>
                <a:lnTo>
                  <a:pt x="198" y="26"/>
                </a:lnTo>
                <a:lnTo>
                  <a:pt x="30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967200" y="3770280"/>
            <a:ext cx="1440" cy="177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29040" y="3967200"/>
            <a:ext cx="106560" cy="257040"/>
          </a:xfrm>
          <a:custGeom>
            <a:avLst/>
            <a:gdLst/>
            <a:ahLst/>
            <a:rect l="l" t="t" r="r" b="b"/>
            <a:pathLst>
              <a:path w="296" h="716">
                <a:moveTo>
                  <a:pt x="198" y="715"/>
                </a:moveTo>
                <a:lnTo>
                  <a:pt x="163" y="644"/>
                </a:lnTo>
                <a:lnTo>
                  <a:pt x="66" y="627"/>
                </a:lnTo>
                <a:lnTo>
                  <a:pt x="0" y="574"/>
                </a:lnTo>
                <a:lnTo>
                  <a:pt x="0" y="525"/>
                </a:lnTo>
                <a:lnTo>
                  <a:pt x="97" y="490"/>
                </a:lnTo>
                <a:lnTo>
                  <a:pt x="198" y="472"/>
                </a:lnTo>
                <a:lnTo>
                  <a:pt x="264" y="419"/>
                </a:lnTo>
                <a:lnTo>
                  <a:pt x="295" y="366"/>
                </a:lnTo>
                <a:lnTo>
                  <a:pt x="264" y="313"/>
                </a:lnTo>
                <a:lnTo>
                  <a:pt x="163" y="278"/>
                </a:lnTo>
                <a:lnTo>
                  <a:pt x="66" y="242"/>
                </a:lnTo>
                <a:lnTo>
                  <a:pt x="30" y="189"/>
                </a:lnTo>
                <a:lnTo>
                  <a:pt x="0" y="141"/>
                </a:lnTo>
                <a:lnTo>
                  <a:pt x="0" y="88"/>
                </a:lnTo>
                <a:lnTo>
                  <a:pt x="97" y="53"/>
                </a:lnTo>
                <a:lnTo>
                  <a:pt x="198" y="35"/>
                </a:lnTo>
                <a:lnTo>
                  <a:pt x="295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421240" y="3759120"/>
            <a:ext cx="1800" cy="176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81640" y="3952800"/>
            <a:ext cx="139680" cy="271440"/>
          </a:xfrm>
          <a:custGeom>
            <a:avLst/>
            <a:gdLst/>
            <a:ahLst/>
            <a:rect l="l" t="t" r="r" b="b"/>
            <a:pathLst>
              <a:path w="389" h="756">
                <a:moveTo>
                  <a:pt x="260" y="755"/>
                </a:moveTo>
                <a:lnTo>
                  <a:pt x="216" y="680"/>
                </a:lnTo>
                <a:lnTo>
                  <a:pt x="88" y="662"/>
                </a:lnTo>
                <a:lnTo>
                  <a:pt x="0" y="609"/>
                </a:lnTo>
                <a:lnTo>
                  <a:pt x="0" y="552"/>
                </a:lnTo>
                <a:lnTo>
                  <a:pt x="128" y="516"/>
                </a:lnTo>
                <a:lnTo>
                  <a:pt x="260" y="499"/>
                </a:lnTo>
                <a:lnTo>
                  <a:pt x="344" y="441"/>
                </a:lnTo>
                <a:lnTo>
                  <a:pt x="388" y="388"/>
                </a:lnTo>
                <a:lnTo>
                  <a:pt x="344" y="331"/>
                </a:lnTo>
                <a:lnTo>
                  <a:pt x="216" y="296"/>
                </a:lnTo>
                <a:lnTo>
                  <a:pt x="88" y="256"/>
                </a:lnTo>
                <a:lnTo>
                  <a:pt x="44" y="203"/>
                </a:lnTo>
                <a:lnTo>
                  <a:pt x="0" y="145"/>
                </a:lnTo>
                <a:lnTo>
                  <a:pt x="0" y="92"/>
                </a:lnTo>
                <a:lnTo>
                  <a:pt x="128" y="57"/>
                </a:lnTo>
                <a:lnTo>
                  <a:pt x="260" y="35"/>
                </a:lnTo>
                <a:lnTo>
                  <a:pt x="388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39440" y="600120"/>
            <a:ext cx="86072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w program runs on multiprocesso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49120" y="2793960"/>
            <a:ext cx="161928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ng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35160" y="4260600"/>
            <a:ext cx="7386480" cy="380160"/>
          </a:xfrm>
          <a:prstGeom prst="roundRect">
            <a:avLst>
              <a:gd name="adj" fmla="val 47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10691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5680" y="2127240"/>
            <a:ext cx="550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45200" y="5826240"/>
            <a:ext cx="374760" cy="3985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0" y="5846760"/>
            <a:ext cx="167004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spcBef>
                <a:spcPts val="1111"/>
              </a:spcBef>
              <a:tabLst>
                <a:tab algn="l" pos="0"/>
                <a:tab algn="l" pos="723960"/>
                <a:tab algn="l" pos="14479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39760" y="1569960"/>
            <a:ext cx="9559800" cy="5640480"/>
          </a:xfrm>
          <a:prstGeom prst="roundRect">
            <a:avLst>
              <a:gd name="adj" fmla="val 28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8040" y="5389560"/>
            <a:ext cx="3203640" cy="439920"/>
          </a:xfrm>
          <a:prstGeom prst="roundRect">
            <a:avLst>
              <a:gd name="adj" fmla="val 361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055520" y="5468400"/>
            <a:ext cx="274320" cy="240120"/>
            <a:chOff x="1055520" y="5468400"/>
            <a:chExt cx="274320" cy="240120"/>
          </a:xfrm>
        </p:grpSpPr>
        <p:sp>
          <p:nvSpPr>
            <p:cNvPr id="159" name=""/>
            <p:cNvSpPr/>
            <p:nvPr/>
          </p:nvSpPr>
          <p:spPr>
            <a:xfrm>
              <a:off x="1064880" y="5516280"/>
              <a:ext cx="255600" cy="144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55520" y="5468400"/>
              <a:ext cx="2743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706400" y="5468400"/>
            <a:ext cx="274320" cy="240120"/>
            <a:chOff x="1706400" y="5468400"/>
            <a:chExt cx="274320" cy="240120"/>
          </a:xfrm>
        </p:grpSpPr>
        <p:sp>
          <p:nvSpPr>
            <p:cNvPr id="162" name=""/>
            <p:cNvSpPr/>
            <p:nvPr/>
          </p:nvSpPr>
          <p:spPr>
            <a:xfrm>
              <a:off x="1714320" y="5516280"/>
              <a:ext cx="258840" cy="144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06400" y="5468400"/>
              <a:ext cx="2743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V="1">
            <a:off x="2766960" y="3396960"/>
            <a:ext cx="1800" cy="176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17520" y="2484360"/>
            <a:ext cx="3375000" cy="1419480"/>
            <a:chOff x="317520" y="2484360"/>
            <a:chExt cx="3375000" cy="1419480"/>
          </a:xfrm>
        </p:grpSpPr>
        <p:sp>
          <p:nvSpPr>
            <p:cNvPr id="166" name=""/>
            <p:cNvSpPr/>
            <p:nvPr/>
          </p:nvSpPr>
          <p:spPr>
            <a:xfrm>
              <a:off x="317520" y="2484360"/>
              <a:ext cx="3375000" cy="1230480"/>
            </a:xfrm>
            <a:prstGeom prst="roundRect">
              <a:avLst>
                <a:gd name="adj" fmla="val 125"/>
              </a:avLst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6600" y="2675160"/>
              <a:ext cx="414000" cy="865080"/>
            </a:xfrm>
            <a:custGeom>
              <a:avLst/>
              <a:gdLst>
                <a:gd name="textAreaLeft" fmla="*/ 360 w 414000"/>
                <a:gd name="textAreaRight" fmla="*/ 413640 w 414000"/>
                <a:gd name="textAreaTop" fmla="*/ 360 h 865080"/>
                <a:gd name="textAreaBottom" fmla="*/ 864720 h 865080"/>
              </a:gdLst>
              <a:ahLst/>
              <a:rect l="textAreaLeft" t="textAreaTop" r="textAreaRight" b="textAreaBottom"/>
              <a:pathLst>
                <a:path w="21600" h="45114">
                  <a:moveTo>
                    <a:pt x="83" y="0"/>
                  </a:moveTo>
                  <a:arcTo wR="83" hR="83" stAng="16200000" swAng="-5400000"/>
                  <a:lnTo>
                    <a:pt x="0" y="45031"/>
                  </a:lnTo>
                  <a:arcTo wR="83" hR="83" stAng="10800000" swAng="-5400000"/>
                  <a:lnTo>
                    <a:pt x="21517" y="45114"/>
                  </a:lnTo>
                  <a:arcTo wR="83" hR="83" stAng="5400000" swAng="-5400000"/>
                  <a:lnTo>
                    <a:pt x="21600" y="83"/>
                  </a:lnTo>
                  <a:arcTo wR="83" hR="83" stAng="0" swAng="-5400000"/>
                  <a:close/>
                </a:path>
              </a:pathLst>
            </a:custGeom>
            <a:gradFill rotWithShape="0">
              <a:gsLst>
                <a:gs pos="0">
                  <a:srgbClr val="fb4c67"/>
                </a:gs>
                <a:gs pos="100000">
                  <a:srgbClr val="fc0128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7760" y="2675160"/>
              <a:ext cx="660240" cy="895320"/>
            </a:xfrm>
            <a:custGeom>
              <a:avLst/>
              <a:gdLst>
                <a:gd name="textAreaLeft" fmla="*/ 360 w 660240"/>
                <a:gd name="textAreaRight" fmla="*/ 659880 w 660240"/>
                <a:gd name="textAreaTop" fmla="*/ 360 h 895320"/>
                <a:gd name="textAreaBottom" fmla="*/ 894960 h 895320"/>
              </a:gdLst>
              <a:ahLst/>
              <a:rect l="textAreaLeft" t="textAreaTop" r="textAreaRight" b="textAreaBottom"/>
              <a:pathLst>
                <a:path w="21600" h="29287">
                  <a:moveTo>
                    <a:pt x="51" y="0"/>
                  </a:moveTo>
                  <a:arcTo wR="51" hR="51" stAng="16200000" swAng="-5400000"/>
                  <a:lnTo>
                    <a:pt x="0" y="29236"/>
                  </a:lnTo>
                  <a:arcTo wR="51" hR="51" stAng="10800000" swAng="-5400000"/>
                  <a:lnTo>
                    <a:pt x="21549" y="29287"/>
                  </a:lnTo>
                  <a:arcTo wR="51" hR="51" stAng="5400000" swAng="-5400000"/>
                  <a:lnTo>
                    <a:pt x="21600" y="51"/>
                  </a:lnTo>
                  <a:arcTo wR="51" hR="51" stAng="0" swAng="-5400000"/>
                  <a:close/>
                </a:path>
              </a:pathLst>
            </a:custGeom>
            <a:gradFill rotWithShape="0">
              <a:gsLst>
                <a:gs pos="0">
                  <a:srgbClr val="fb4c67"/>
                </a:gs>
                <a:gs pos="100000">
                  <a:srgbClr val="fc0128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4720" y="3232080"/>
              <a:ext cx="120240" cy="2257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634320" y="2789280"/>
              <a:ext cx="41040" cy="428400"/>
              <a:chOff x="634320" y="2789280"/>
              <a:chExt cx="41040" cy="428400"/>
            </a:xfrm>
          </p:grpSpPr>
          <p:sp>
            <p:nvSpPr>
              <p:cNvPr id="171" name=""/>
              <p:cNvSpPr/>
              <p:nvPr/>
            </p:nvSpPr>
            <p:spPr>
              <a:xfrm>
                <a:off x="654120" y="2993400"/>
                <a:ext cx="1080" cy="22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34320" y="2789280"/>
                <a:ext cx="41040" cy="158040"/>
              </a:xfrm>
              <a:custGeom>
                <a:avLst/>
                <a:gdLst/>
                <a:ahLst/>
                <a:rect l="l" t="t" r="r" b="b"/>
                <a:pathLst>
                  <a:path w="118" h="443">
                    <a:moveTo>
                      <a:pt x="78" y="0"/>
                    </a:moveTo>
                    <a:lnTo>
                      <a:pt x="64" y="44"/>
                    </a:lnTo>
                    <a:lnTo>
                      <a:pt x="26" y="53"/>
                    </a:lnTo>
                    <a:lnTo>
                      <a:pt x="0" y="88"/>
                    </a:lnTo>
                    <a:lnTo>
                      <a:pt x="0" y="119"/>
                    </a:lnTo>
                    <a:lnTo>
                      <a:pt x="37" y="141"/>
                    </a:lnTo>
                    <a:lnTo>
                      <a:pt x="78" y="150"/>
                    </a:lnTo>
                    <a:lnTo>
                      <a:pt x="107" y="181"/>
                    </a:lnTo>
                    <a:lnTo>
                      <a:pt x="117" y="216"/>
                    </a:lnTo>
                    <a:lnTo>
                      <a:pt x="107" y="247"/>
                    </a:lnTo>
                    <a:lnTo>
                      <a:pt x="64" y="269"/>
                    </a:lnTo>
                    <a:lnTo>
                      <a:pt x="26" y="292"/>
                    </a:lnTo>
                    <a:lnTo>
                      <a:pt x="12" y="323"/>
                    </a:lnTo>
                    <a:lnTo>
                      <a:pt x="0" y="354"/>
                    </a:lnTo>
                    <a:lnTo>
                      <a:pt x="0" y="389"/>
                    </a:lnTo>
                    <a:lnTo>
                      <a:pt x="37" y="411"/>
                    </a:lnTo>
                    <a:lnTo>
                      <a:pt x="78" y="420"/>
                    </a:lnTo>
                    <a:lnTo>
                      <a:pt x="117" y="442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1531080" y="3262320"/>
              <a:ext cx="118800" cy="225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89760" y="3024360"/>
              <a:ext cx="144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69240" y="2819520"/>
              <a:ext cx="42480" cy="158760"/>
            </a:xfrm>
            <a:custGeom>
              <a:avLst/>
              <a:gdLst/>
              <a:ahLst/>
              <a:rect l="l" t="t" r="r" b="b"/>
              <a:pathLst>
                <a:path w="117" h="442">
                  <a:moveTo>
                    <a:pt x="77" y="0"/>
                  </a:moveTo>
                  <a:lnTo>
                    <a:pt x="63" y="44"/>
                  </a:lnTo>
                  <a:lnTo>
                    <a:pt x="25" y="52"/>
                  </a:lnTo>
                  <a:lnTo>
                    <a:pt x="0" y="88"/>
                  </a:lnTo>
                  <a:lnTo>
                    <a:pt x="0" y="119"/>
                  </a:lnTo>
                  <a:lnTo>
                    <a:pt x="38" y="141"/>
                  </a:lnTo>
                  <a:lnTo>
                    <a:pt x="77" y="150"/>
                  </a:lnTo>
                  <a:lnTo>
                    <a:pt x="104" y="181"/>
                  </a:lnTo>
                  <a:lnTo>
                    <a:pt x="116" y="216"/>
                  </a:lnTo>
                  <a:lnTo>
                    <a:pt x="104" y="247"/>
                  </a:lnTo>
                  <a:lnTo>
                    <a:pt x="63" y="269"/>
                  </a:lnTo>
                  <a:lnTo>
                    <a:pt x="25" y="291"/>
                  </a:lnTo>
                  <a:lnTo>
                    <a:pt x="12" y="322"/>
                  </a:lnTo>
                  <a:lnTo>
                    <a:pt x="0" y="353"/>
                  </a:lnTo>
                  <a:lnTo>
                    <a:pt x="0" y="388"/>
                  </a:lnTo>
                  <a:lnTo>
                    <a:pt x="38" y="410"/>
                  </a:lnTo>
                  <a:lnTo>
                    <a:pt x="77" y="419"/>
                  </a:lnTo>
                  <a:lnTo>
                    <a:pt x="116" y="44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94480" y="3262320"/>
              <a:ext cx="118800" cy="225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16880" y="2819520"/>
              <a:ext cx="42480" cy="158760"/>
            </a:xfrm>
            <a:custGeom>
              <a:avLst/>
              <a:gdLst/>
              <a:ahLst/>
              <a:rect l="l" t="t" r="r" b="b"/>
              <a:pathLst>
                <a:path w="120" h="442">
                  <a:moveTo>
                    <a:pt x="79" y="0"/>
                  </a:moveTo>
                  <a:lnTo>
                    <a:pt x="67" y="44"/>
                  </a:lnTo>
                  <a:lnTo>
                    <a:pt x="27" y="52"/>
                  </a:lnTo>
                  <a:lnTo>
                    <a:pt x="0" y="88"/>
                  </a:lnTo>
                  <a:lnTo>
                    <a:pt x="0" y="119"/>
                  </a:lnTo>
                  <a:lnTo>
                    <a:pt x="42" y="141"/>
                  </a:lnTo>
                  <a:lnTo>
                    <a:pt x="79" y="150"/>
                  </a:lnTo>
                  <a:lnTo>
                    <a:pt x="105" y="181"/>
                  </a:lnTo>
                  <a:lnTo>
                    <a:pt x="119" y="216"/>
                  </a:lnTo>
                  <a:lnTo>
                    <a:pt x="105" y="247"/>
                  </a:lnTo>
                  <a:lnTo>
                    <a:pt x="67" y="269"/>
                  </a:lnTo>
                  <a:lnTo>
                    <a:pt x="27" y="291"/>
                  </a:lnTo>
                  <a:lnTo>
                    <a:pt x="15" y="322"/>
                  </a:lnTo>
                  <a:lnTo>
                    <a:pt x="0" y="353"/>
                  </a:lnTo>
                  <a:lnTo>
                    <a:pt x="0" y="388"/>
                  </a:lnTo>
                  <a:lnTo>
                    <a:pt x="42" y="410"/>
                  </a:lnTo>
                  <a:lnTo>
                    <a:pt x="79" y="419"/>
                  </a:lnTo>
                  <a:lnTo>
                    <a:pt x="119" y="44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48760" y="2819520"/>
              <a:ext cx="44280" cy="158760"/>
            </a:xfrm>
            <a:custGeom>
              <a:avLst/>
              <a:gdLst/>
              <a:ahLst/>
              <a:rect l="l" t="t" r="r" b="b"/>
              <a:pathLst>
                <a:path w="122" h="442">
                  <a:moveTo>
                    <a:pt x="81" y="0"/>
                  </a:moveTo>
                  <a:lnTo>
                    <a:pt x="66" y="44"/>
                  </a:lnTo>
                  <a:lnTo>
                    <a:pt x="26" y="52"/>
                  </a:lnTo>
                  <a:lnTo>
                    <a:pt x="0" y="88"/>
                  </a:lnTo>
                  <a:lnTo>
                    <a:pt x="0" y="119"/>
                  </a:lnTo>
                  <a:lnTo>
                    <a:pt x="41" y="141"/>
                  </a:lnTo>
                  <a:lnTo>
                    <a:pt x="81" y="150"/>
                  </a:lnTo>
                  <a:lnTo>
                    <a:pt x="107" y="181"/>
                  </a:lnTo>
                  <a:lnTo>
                    <a:pt x="121" y="216"/>
                  </a:lnTo>
                  <a:lnTo>
                    <a:pt x="107" y="247"/>
                  </a:lnTo>
                  <a:lnTo>
                    <a:pt x="66" y="269"/>
                  </a:lnTo>
                  <a:lnTo>
                    <a:pt x="26" y="291"/>
                  </a:lnTo>
                  <a:lnTo>
                    <a:pt x="14" y="322"/>
                  </a:lnTo>
                  <a:lnTo>
                    <a:pt x="0" y="353"/>
                  </a:lnTo>
                  <a:lnTo>
                    <a:pt x="0" y="388"/>
                  </a:lnTo>
                  <a:lnTo>
                    <a:pt x="41" y="410"/>
                  </a:lnTo>
                  <a:lnTo>
                    <a:pt x="81" y="419"/>
                  </a:lnTo>
                  <a:lnTo>
                    <a:pt x="121" y="44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94480" y="3024360"/>
              <a:ext cx="3456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268640" y="3024360"/>
              <a:ext cx="5220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53360" y="2675160"/>
              <a:ext cx="682200" cy="895320"/>
            </a:xfrm>
            <a:custGeom>
              <a:avLst/>
              <a:gdLst>
                <a:gd name="textAreaLeft" fmla="*/ 360 w 682200"/>
                <a:gd name="textAreaRight" fmla="*/ 681840 w 682200"/>
                <a:gd name="textAreaTop" fmla="*/ 360 h 895320"/>
                <a:gd name="textAreaBottom" fmla="*/ 894960 h 895320"/>
              </a:gdLst>
              <a:ahLst/>
              <a:rect l="textAreaLeft" t="textAreaTop" r="textAreaRight" b="textAreaBottom"/>
              <a:pathLst>
                <a:path w="21600" h="28344">
                  <a:moveTo>
                    <a:pt x="50" y="0"/>
                  </a:moveTo>
                  <a:arcTo wR="50" hR="50" stAng="16200000" swAng="-5400000"/>
                  <a:lnTo>
                    <a:pt x="0" y="28294"/>
                  </a:lnTo>
                  <a:arcTo wR="50" hR="50" stAng="10800000" swAng="-5400000"/>
                  <a:lnTo>
                    <a:pt x="21550" y="28344"/>
                  </a:lnTo>
                  <a:arcTo wR="50" hR="50" stAng="5400000" swAng="-5400000"/>
                  <a:lnTo>
                    <a:pt x="21600" y="50"/>
                  </a:lnTo>
                  <a:arcTo wR="50" hR="50" stAng="0" swAng="-5400000"/>
                  <a:close/>
                </a:path>
              </a:pathLst>
            </a:custGeom>
            <a:gradFill rotWithShape="0">
              <a:gsLst>
                <a:gs pos="0">
                  <a:srgbClr val="fb4c67"/>
                </a:gs>
                <a:gs pos="100000">
                  <a:srgbClr val="fc0128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54560" y="2819520"/>
              <a:ext cx="42480" cy="158760"/>
            </a:xfrm>
            <a:custGeom>
              <a:avLst/>
              <a:gdLst/>
              <a:ahLst/>
              <a:rect l="l" t="t" r="r" b="b"/>
              <a:pathLst>
                <a:path w="118" h="442">
                  <a:moveTo>
                    <a:pt x="78" y="0"/>
                  </a:moveTo>
                  <a:lnTo>
                    <a:pt x="66" y="44"/>
                  </a:lnTo>
                  <a:lnTo>
                    <a:pt x="25" y="52"/>
                  </a:lnTo>
                  <a:lnTo>
                    <a:pt x="0" y="88"/>
                  </a:lnTo>
                  <a:lnTo>
                    <a:pt x="0" y="119"/>
                  </a:lnTo>
                  <a:lnTo>
                    <a:pt x="40" y="141"/>
                  </a:lnTo>
                  <a:lnTo>
                    <a:pt x="78" y="150"/>
                  </a:lnTo>
                  <a:lnTo>
                    <a:pt x="104" y="181"/>
                  </a:lnTo>
                  <a:lnTo>
                    <a:pt x="117" y="216"/>
                  </a:lnTo>
                  <a:lnTo>
                    <a:pt x="104" y="247"/>
                  </a:lnTo>
                  <a:lnTo>
                    <a:pt x="66" y="269"/>
                  </a:lnTo>
                  <a:lnTo>
                    <a:pt x="25" y="291"/>
                  </a:lnTo>
                  <a:lnTo>
                    <a:pt x="14" y="322"/>
                  </a:lnTo>
                  <a:lnTo>
                    <a:pt x="0" y="353"/>
                  </a:lnTo>
                  <a:lnTo>
                    <a:pt x="0" y="388"/>
                  </a:lnTo>
                  <a:lnTo>
                    <a:pt x="40" y="410"/>
                  </a:lnTo>
                  <a:lnTo>
                    <a:pt x="78" y="419"/>
                  </a:lnTo>
                  <a:lnTo>
                    <a:pt x="117" y="44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87880" y="2819520"/>
              <a:ext cx="42480" cy="158760"/>
            </a:xfrm>
            <a:custGeom>
              <a:avLst/>
              <a:gdLst/>
              <a:ahLst/>
              <a:rect l="l" t="t" r="r" b="b"/>
              <a:pathLst>
                <a:path w="117" h="442">
                  <a:moveTo>
                    <a:pt x="77" y="0"/>
                  </a:moveTo>
                  <a:lnTo>
                    <a:pt x="66" y="44"/>
                  </a:lnTo>
                  <a:lnTo>
                    <a:pt x="24" y="52"/>
                  </a:lnTo>
                  <a:lnTo>
                    <a:pt x="0" y="88"/>
                  </a:lnTo>
                  <a:lnTo>
                    <a:pt x="0" y="119"/>
                  </a:lnTo>
                  <a:lnTo>
                    <a:pt x="39" y="141"/>
                  </a:lnTo>
                  <a:lnTo>
                    <a:pt x="77" y="150"/>
                  </a:lnTo>
                  <a:lnTo>
                    <a:pt x="102" y="181"/>
                  </a:lnTo>
                  <a:lnTo>
                    <a:pt x="116" y="216"/>
                  </a:lnTo>
                  <a:lnTo>
                    <a:pt x="102" y="247"/>
                  </a:lnTo>
                  <a:lnTo>
                    <a:pt x="66" y="269"/>
                  </a:lnTo>
                  <a:lnTo>
                    <a:pt x="24" y="291"/>
                  </a:lnTo>
                  <a:lnTo>
                    <a:pt x="13" y="322"/>
                  </a:lnTo>
                  <a:lnTo>
                    <a:pt x="0" y="353"/>
                  </a:lnTo>
                  <a:lnTo>
                    <a:pt x="0" y="388"/>
                  </a:lnTo>
                  <a:lnTo>
                    <a:pt x="39" y="410"/>
                  </a:lnTo>
                  <a:lnTo>
                    <a:pt x="77" y="419"/>
                  </a:lnTo>
                  <a:lnTo>
                    <a:pt x="116" y="44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2520" y="3024360"/>
              <a:ext cx="3456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508480" y="3024360"/>
              <a:ext cx="5040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95920" y="3262320"/>
              <a:ext cx="118800" cy="225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19760" y="2819520"/>
              <a:ext cx="40680" cy="158760"/>
            </a:xfrm>
            <a:custGeom>
              <a:avLst/>
              <a:gdLst/>
              <a:ahLst/>
              <a:rect l="l" t="t" r="r" b="b"/>
              <a:pathLst>
                <a:path w="114" h="442">
                  <a:moveTo>
                    <a:pt x="75" y="0"/>
                  </a:moveTo>
                  <a:lnTo>
                    <a:pt x="63" y="44"/>
                  </a:lnTo>
                  <a:lnTo>
                    <a:pt x="25" y="52"/>
                  </a:lnTo>
                  <a:lnTo>
                    <a:pt x="0" y="88"/>
                  </a:lnTo>
                  <a:lnTo>
                    <a:pt x="0" y="119"/>
                  </a:lnTo>
                  <a:lnTo>
                    <a:pt x="37" y="141"/>
                  </a:lnTo>
                  <a:lnTo>
                    <a:pt x="75" y="150"/>
                  </a:lnTo>
                  <a:lnTo>
                    <a:pt x="101" y="181"/>
                  </a:lnTo>
                  <a:lnTo>
                    <a:pt x="113" y="216"/>
                  </a:lnTo>
                  <a:lnTo>
                    <a:pt x="101" y="247"/>
                  </a:lnTo>
                  <a:lnTo>
                    <a:pt x="63" y="269"/>
                  </a:lnTo>
                  <a:lnTo>
                    <a:pt x="25" y="291"/>
                  </a:lnTo>
                  <a:lnTo>
                    <a:pt x="11" y="322"/>
                  </a:lnTo>
                  <a:lnTo>
                    <a:pt x="0" y="353"/>
                  </a:lnTo>
                  <a:lnTo>
                    <a:pt x="0" y="388"/>
                  </a:lnTo>
                  <a:lnTo>
                    <a:pt x="37" y="410"/>
                  </a:lnTo>
                  <a:lnTo>
                    <a:pt x="75" y="419"/>
                  </a:lnTo>
                  <a:lnTo>
                    <a:pt x="113" y="44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51280" y="2819520"/>
              <a:ext cx="41040" cy="158760"/>
            </a:xfrm>
            <a:custGeom>
              <a:avLst/>
              <a:gdLst/>
              <a:ahLst/>
              <a:rect l="l" t="t" r="r" b="b"/>
              <a:pathLst>
                <a:path w="114" h="442">
                  <a:moveTo>
                    <a:pt x="76" y="0"/>
                  </a:moveTo>
                  <a:lnTo>
                    <a:pt x="64" y="44"/>
                  </a:lnTo>
                  <a:lnTo>
                    <a:pt x="25" y="52"/>
                  </a:lnTo>
                  <a:lnTo>
                    <a:pt x="0" y="88"/>
                  </a:lnTo>
                  <a:lnTo>
                    <a:pt x="0" y="119"/>
                  </a:lnTo>
                  <a:lnTo>
                    <a:pt x="38" y="141"/>
                  </a:lnTo>
                  <a:lnTo>
                    <a:pt x="76" y="150"/>
                  </a:lnTo>
                  <a:lnTo>
                    <a:pt x="102" y="181"/>
                  </a:lnTo>
                  <a:lnTo>
                    <a:pt x="113" y="216"/>
                  </a:lnTo>
                  <a:lnTo>
                    <a:pt x="102" y="247"/>
                  </a:lnTo>
                  <a:lnTo>
                    <a:pt x="64" y="269"/>
                  </a:lnTo>
                  <a:lnTo>
                    <a:pt x="25" y="291"/>
                  </a:lnTo>
                  <a:lnTo>
                    <a:pt x="11" y="322"/>
                  </a:lnTo>
                  <a:lnTo>
                    <a:pt x="0" y="353"/>
                  </a:lnTo>
                  <a:lnTo>
                    <a:pt x="0" y="388"/>
                  </a:lnTo>
                  <a:lnTo>
                    <a:pt x="38" y="410"/>
                  </a:lnTo>
                  <a:lnTo>
                    <a:pt x="76" y="419"/>
                  </a:lnTo>
                  <a:lnTo>
                    <a:pt x="113" y="44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95920" y="3024360"/>
              <a:ext cx="3456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2170080" y="3024360"/>
              <a:ext cx="5220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35520" y="2819520"/>
              <a:ext cx="42480" cy="158760"/>
            </a:xfrm>
            <a:custGeom>
              <a:avLst/>
              <a:gdLst/>
              <a:ahLst/>
              <a:rect l="l" t="t" r="r" b="b"/>
              <a:pathLst>
                <a:path w="117" h="442">
                  <a:moveTo>
                    <a:pt x="78" y="0"/>
                  </a:moveTo>
                  <a:lnTo>
                    <a:pt x="64" y="44"/>
                  </a:lnTo>
                  <a:lnTo>
                    <a:pt x="26" y="52"/>
                  </a:lnTo>
                  <a:lnTo>
                    <a:pt x="0" y="88"/>
                  </a:lnTo>
                  <a:lnTo>
                    <a:pt x="0" y="119"/>
                  </a:lnTo>
                  <a:lnTo>
                    <a:pt x="38" y="141"/>
                  </a:lnTo>
                  <a:lnTo>
                    <a:pt x="78" y="150"/>
                  </a:lnTo>
                  <a:lnTo>
                    <a:pt x="104" y="181"/>
                  </a:lnTo>
                  <a:lnTo>
                    <a:pt x="116" y="216"/>
                  </a:lnTo>
                  <a:lnTo>
                    <a:pt x="104" y="247"/>
                  </a:lnTo>
                  <a:lnTo>
                    <a:pt x="64" y="269"/>
                  </a:lnTo>
                  <a:lnTo>
                    <a:pt x="26" y="291"/>
                  </a:lnTo>
                  <a:lnTo>
                    <a:pt x="12" y="322"/>
                  </a:lnTo>
                  <a:lnTo>
                    <a:pt x="0" y="353"/>
                  </a:lnTo>
                  <a:lnTo>
                    <a:pt x="0" y="388"/>
                  </a:lnTo>
                  <a:lnTo>
                    <a:pt x="38" y="410"/>
                  </a:lnTo>
                  <a:lnTo>
                    <a:pt x="78" y="419"/>
                  </a:lnTo>
                  <a:lnTo>
                    <a:pt x="116" y="44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24600" y="3260880"/>
              <a:ext cx="120240" cy="228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181600" y="3727440"/>
              <a:ext cx="1080" cy="17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97360" y="2763720"/>
              <a:ext cx="38952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36480" y="4887000"/>
            <a:ext cx="2557440" cy="304560"/>
          </a:xfrm>
          <a:prstGeom prst="roundRect">
            <a:avLst>
              <a:gd name="adj" fmla="val 47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10691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952960" y="2560680"/>
            <a:ext cx="3436920" cy="1418760"/>
            <a:chOff x="5952960" y="2560680"/>
            <a:chExt cx="3436920" cy="1418760"/>
          </a:xfrm>
        </p:grpSpPr>
        <p:sp>
          <p:nvSpPr>
            <p:cNvPr id="197" name=""/>
            <p:cNvSpPr/>
            <p:nvPr/>
          </p:nvSpPr>
          <p:spPr>
            <a:xfrm>
              <a:off x="5952960" y="2560680"/>
              <a:ext cx="3436920" cy="1230480"/>
            </a:xfrm>
            <a:prstGeom prst="roundRect">
              <a:avLst>
                <a:gd name="adj" fmla="val 125"/>
              </a:avLst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65640" y="2751120"/>
              <a:ext cx="422280" cy="865440"/>
            </a:xfrm>
            <a:custGeom>
              <a:avLst/>
              <a:gdLst>
                <a:gd name="textAreaLeft" fmla="*/ 360 w 422280"/>
                <a:gd name="textAreaRight" fmla="*/ 421920 w 422280"/>
                <a:gd name="textAreaTop" fmla="*/ 360 h 865440"/>
                <a:gd name="textAreaBottom" fmla="*/ 865080 h 865440"/>
              </a:gdLst>
              <a:ahLst/>
              <a:rect l="textAreaLeft" t="textAreaTop" r="textAreaRight" b="textAreaBottom"/>
              <a:pathLst>
                <a:path w="21600" h="44249">
                  <a:moveTo>
                    <a:pt x="81" y="0"/>
                  </a:moveTo>
                  <a:arcTo wR="81" hR="81" stAng="16200000" swAng="-5400000"/>
                  <a:lnTo>
                    <a:pt x="0" y="44168"/>
                  </a:lnTo>
                  <a:arcTo wR="81" hR="81" stAng="10800000" swAng="-5400000"/>
                  <a:lnTo>
                    <a:pt x="21519" y="44249"/>
                  </a:lnTo>
                  <a:arcTo wR="81" hR="81" stAng="5400000" swAng="-5400000"/>
                  <a:lnTo>
                    <a:pt x="21600" y="81"/>
                  </a:lnTo>
                  <a:arcTo wR="81" hR="81" stAng="0" swAng="-5400000"/>
                  <a:close/>
                </a:path>
              </a:pathLst>
            </a:custGeom>
            <a:gradFill rotWithShape="0">
              <a:gsLst>
                <a:gs pos="0">
                  <a:srgbClr val="fb4c67"/>
                </a:gs>
                <a:gs pos="100000">
                  <a:srgbClr val="fc0128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18680" y="2751120"/>
              <a:ext cx="671400" cy="895320"/>
            </a:xfrm>
            <a:custGeom>
              <a:avLst/>
              <a:gdLst>
                <a:gd name="textAreaLeft" fmla="*/ 360 w 671400"/>
                <a:gd name="textAreaRight" fmla="*/ 671040 w 671400"/>
                <a:gd name="textAreaTop" fmla="*/ 360 h 895320"/>
                <a:gd name="textAreaBottom" fmla="*/ 894960 h 895320"/>
              </a:gdLst>
              <a:ahLst/>
              <a:rect l="textAreaLeft" t="textAreaTop" r="textAreaRight" b="textAreaBottom"/>
              <a:pathLst>
                <a:path w="21600" h="28800">
                  <a:moveTo>
                    <a:pt x="51" y="0"/>
                  </a:moveTo>
                  <a:arcTo wR="51" hR="51" stAng="16200000" swAng="-5400000"/>
                  <a:lnTo>
                    <a:pt x="0" y="28749"/>
                  </a:lnTo>
                  <a:arcTo wR="51" hR="51" stAng="10800000" swAng="-5400000"/>
                  <a:lnTo>
                    <a:pt x="21549" y="28800"/>
                  </a:lnTo>
                  <a:arcTo wR="51" hR="51" stAng="5400000" swAng="-5400000"/>
                  <a:lnTo>
                    <a:pt x="21600" y="51"/>
                  </a:lnTo>
                  <a:arcTo wR="51" hR="51" stAng="0" swAng="-5400000"/>
                  <a:close/>
                </a:path>
              </a:pathLst>
            </a:custGeom>
            <a:gradFill rotWithShape="0">
              <a:gsLst>
                <a:gs pos="0">
                  <a:srgbClr val="fb4c67"/>
                </a:gs>
                <a:gs pos="100000">
                  <a:srgbClr val="fc0128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35560" y="3308400"/>
              <a:ext cx="122040" cy="225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6276960" y="2865600"/>
              <a:ext cx="41040" cy="428040"/>
              <a:chOff x="6276960" y="2865600"/>
              <a:chExt cx="41040" cy="428040"/>
            </a:xfrm>
          </p:grpSpPr>
          <p:sp>
            <p:nvSpPr>
              <p:cNvPr id="202" name=""/>
              <p:cNvSpPr/>
              <p:nvPr/>
            </p:nvSpPr>
            <p:spPr>
              <a:xfrm>
                <a:off x="6296400" y="3069360"/>
                <a:ext cx="1080" cy="22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276960" y="2865600"/>
                <a:ext cx="41040" cy="158040"/>
              </a:xfrm>
              <a:custGeom>
                <a:avLst/>
                <a:gdLst/>
                <a:ahLst/>
                <a:rect l="l" t="t" r="r" b="b"/>
                <a:pathLst>
                  <a:path w="119" h="443">
                    <a:moveTo>
                      <a:pt x="79" y="0"/>
                    </a:moveTo>
                    <a:lnTo>
                      <a:pt x="65" y="44"/>
                    </a:lnTo>
                    <a:lnTo>
                      <a:pt x="26" y="53"/>
                    </a:lnTo>
                    <a:lnTo>
                      <a:pt x="0" y="88"/>
                    </a:lnTo>
                    <a:lnTo>
                      <a:pt x="0" y="119"/>
                    </a:lnTo>
                    <a:lnTo>
                      <a:pt x="39" y="141"/>
                    </a:lnTo>
                    <a:lnTo>
                      <a:pt x="79" y="150"/>
                    </a:lnTo>
                    <a:lnTo>
                      <a:pt x="107" y="181"/>
                    </a:lnTo>
                    <a:lnTo>
                      <a:pt x="118" y="216"/>
                    </a:lnTo>
                    <a:lnTo>
                      <a:pt x="107" y="247"/>
                    </a:lnTo>
                    <a:lnTo>
                      <a:pt x="65" y="269"/>
                    </a:lnTo>
                    <a:lnTo>
                      <a:pt x="26" y="292"/>
                    </a:lnTo>
                    <a:lnTo>
                      <a:pt x="11" y="323"/>
                    </a:lnTo>
                    <a:lnTo>
                      <a:pt x="0" y="354"/>
                    </a:lnTo>
                    <a:lnTo>
                      <a:pt x="0" y="389"/>
                    </a:lnTo>
                    <a:lnTo>
                      <a:pt x="39" y="411"/>
                    </a:lnTo>
                    <a:lnTo>
                      <a:pt x="79" y="420"/>
                    </a:lnTo>
                    <a:lnTo>
                      <a:pt x="118" y="442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7188480" y="3338640"/>
              <a:ext cx="120600" cy="225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3100680"/>
              <a:ext cx="180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26640" y="2895840"/>
              <a:ext cx="42840" cy="158760"/>
            </a:xfrm>
            <a:custGeom>
              <a:avLst/>
              <a:gdLst/>
              <a:ahLst/>
              <a:rect l="l" t="t" r="r" b="b"/>
              <a:pathLst>
                <a:path w="119" h="442">
                  <a:moveTo>
                    <a:pt x="80" y="0"/>
                  </a:moveTo>
                  <a:lnTo>
                    <a:pt x="65" y="44"/>
                  </a:lnTo>
                  <a:lnTo>
                    <a:pt x="26" y="52"/>
                  </a:lnTo>
                  <a:lnTo>
                    <a:pt x="0" y="88"/>
                  </a:lnTo>
                  <a:lnTo>
                    <a:pt x="0" y="119"/>
                  </a:lnTo>
                  <a:lnTo>
                    <a:pt x="38" y="141"/>
                  </a:lnTo>
                  <a:lnTo>
                    <a:pt x="80" y="150"/>
                  </a:lnTo>
                  <a:lnTo>
                    <a:pt x="105" y="181"/>
                  </a:lnTo>
                  <a:lnTo>
                    <a:pt x="118" y="216"/>
                  </a:lnTo>
                  <a:lnTo>
                    <a:pt x="105" y="247"/>
                  </a:lnTo>
                  <a:lnTo>
                    <a:pt x="65" y="269"/>
                  </a:lnTo>
                  <a:lnTo>
                    <a:pt x="26" y="291"/>
                  </a:lnTo>
                  <a:lnTo>
                    <a:pt x="12" y="322"/>
                  </a:lnTo>
                  <a:lnTo>
                    <a:pt x="0" y="353"/>
                  </a:lnTo>
                  <a:lnTo>
                    <a:pt x="0" y="388"/>
                  </a:lnTo>
                  <a:lnTo>
                    <a:pt x="38" y="410"/>
                  </a:lnTo>
                  <a:lnTo>
                    <a:pt x="80" y="419"/>
                  </a:lnTo>
                  <a:lnTo>
                    <a:pt x="118" y="44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47200" y="3338640"/>
              <a:ext cx="120600" cy="225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71040" y="2895840"/>
              <a:ext cx="44280" cy="158760"/>
            </a:xfrm>
            <a:custGeom>
              <a:avLst/>
              <a:gdLst/>
              <a:ahLst/>
              <a:rect l="l" t="t" r="r" b="b"/>
              <a:pathLst>
                <a:path w="122" h="442">
                  <a:moveTo>
                    <a:pt x="80" y="0"/>
                  </a:moveTo>
                  <a:lnTo>
                    <a:pt x="68" y="44"/>
                  </a:lnTo>
                  <a:lnTo>
                    <a:pt x="26" y="52"/>
                  </a:lnTo>
                  <a:lnTo>
                    <a:pt x="0" y="88"/>
                  </a:lnTo>
                  <a:lnTo>
                    <a:pt x="0" y="119"/>
                  </a:lnTo>
                  <a:lnTo>
                    <a:pt x="42" y="141"/>
                  </a:lnTo>
                  <a:lnTo>
                    <a:pt x="80" y="150"/>
                  </a:lnTo>
                  <a:lnTo>
                    <a:pt x="107" y="181"/>
                  </a:lnTo>
                  <a:lnTo>
                    <a:pt x="121" y="216"/>
                  </a:lnTo>
                  <a:lnTo>
                    <a:pt x="107" y="247"/>
                  </a:lnTo>
                  <a:lnTo>
                    <a:pt x="68" y="269"/>
                  </a:lnTo>
                  <a:lnTo>
                    <a:pt x="26" y="291"/>
                  </a:lnTo>
                  <a:lnTo>
                    <a:pt x="16" y="322"/>
                  </a:lnTo>
                  <a:lnTo>
                    <a:pt x="0" y="353"/>
                  </a:lnTo>
                  <a:lnTo>
                    <a:pt x="0" y="388"/>
                  </a:lnTo>
                  <a:lnTo>
                    <a:pt x="42" y="410"/>
                  </a:lnTo>
                  <a:lnTo>
                    <a:pt x="80" y="419"/>
                  </a:lnTo>
                  <a:lnTo>
                    <a:pt x="121" y="44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99320" y="2895840"/>
              <a:ext cx="44640" cy="158760"/>
            </a:xfrm>
            <a:custGeom>
              <a:avLst/>
              <a:gdLst/>
              <a:ahLst/>
              <a:rect l="l" t="t" r="r" b="b"/>
              <a:pathLst>
                <a:path w="123" h="442">
                  <a:moveTo>
                    <a:pt x="80" y="0"/>
                  </a:moveTo>
                  <a:lnTo>
                    <a:pt x="67" y="44"/>
                  </a:lnTo>
                  <a:lnTo>
                    <a:pt x="24" y="52"/>
                  </a:lnTo>
                  <a:lnTo>
                    <a:pt x="0" y="88"/>
                  </a:lnTo>
                  <a:lnTo>
                    <a:pt x="0" y="119"/>
                  </a:lnTo>
                  <a:lnTo>
                    <a:pt x="40" y="141"/>
                  </a:lnTo>
                  <a:lnTo>
                    <a:pt x="80" y="150"/>
                  </a:lnTo>
                  <a:lnTo>
                    <a:pt x="108" y="181"/>
                  </a:lnTo>
                  <a:lnTo>
                    <a:pt x="122" y="216"/>
                  </a:lnTo>
                  <a:lnTo>
                    <a:pt x="108" y="247"/>
                  </a:lnTo>
                  <a:lnTo>
                    <a:pt x="67" y="269"/>
                  </a:lnTo>
                  <a:lnTo>
                    <a:pt x="24" y="291"/>
                  </a:lnTo>
                  <a:lnTo>
                    <a:pt x="14" y="322"/>
                  </a:lnTo>
                  <a:lnTo>
                    <a:pt x="0" y="353"/>
                  </a:lnTo>
                  <a:lnTo>
                    <a:pt x="0" y="388"/>
                  </a:lnTo>
                  <a:lnTo>
                    <a:pt x="40" y="410"/>
                  </a:lnTo>
                  <a:lnTo>
                    <a:pt x="80" y="419"/>
                  </a:lnTo>
                  <a:lnTo>
                    <a:pt x="122" y="44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47200" y="3100680"/>
              <a:ext cx="3492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6923160" y="3100680"/>
              <a:ext cx="5256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19040" y="2751120"/>
              <a:ext cx="694080" cy="895320"/>
            </a:xfrm>
            <a:custGeom>
              <a:avLst/>
              <a:gdLst>
                <a:gd name="textAreaLeft" fmla="*/ 360 w 694080"/>
                <a:gd name="textAreaRight" fmla="*/ 693720 w 694080"/>
                <a:gd name="textAreaTop" fmla="*/ 360 h 895320"/>
                <a:gd name="textAreaBottom" fmla="*/ 894960 h 895320"/>
              </a:gdLst>
              <a:ahLst/>
              <a:rect l="textAreaLeft" t="textAreaTop" r="textAreaRight" b="textAreaBottom"/>
              <a:pathLst>
                <a:path w="21600" h="27859">
                  <a:moveTo>
                    <a:pt x="49" y="0"/>
                  </a:moveTo>
                  <a:arcTo wR="49" hR="49" stAng="16200000" swAng="-5400000"/>
                  <a:lnTo>
                    <a:pt x="0" y="27810"/>
                  </a:lnTo>
                  <a:arcTo wR="49" hR="49" stAng="10800000" swAng="-5400000"/>
                  <a:lnTo>
                    <a:pt x="21551" y="27859"/>
                  </a:lnTo>
                  <a:arcTo wR="49" hR="49" stAng="5400000" swAng="-5400000"/>
                  <a:lnTo>
                    <a:pt x="21600" y="49"/>
                  </a:lnTo>
                  <a:arcTo wR="49" hR="49" stAng="0" swAng="-5400000"/>
                  <a:close/>
                </a:path>
              </a:pathLst>
            </a:custGeom>
            <a:gradFill rotWithShape="0">
              <a:gsLst>
                <a:gs pos="0">
                  <a:srgbClr val="fb4c67"/>
                </a:gs>
                <a:gs pos="100000">
                  <a:srgbClr val="fc0128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32120" y="2895840"/>
              <a:ext cx="42840" cy="158760"/>
            </a:xfrm>
            <a:custGeom>
              <a:avLst/>
              <a:gdLst/>
              <a:ahLst/>
              <a:rect l="l" t="t" r="r" b="b"/>
              <a:pathLst>
                <a:path w="121" h="442">
                  <a:moveTo>
                    <a:pt x="79" y="0"/>
                  </a:moveTo>
                  <a:lnTo>
                    <a:pt x="67" y="44"/>
                  </a:lnTo>
                  <a:lnTo>
                    <a:pt x="26" y="52"/>
                  </a:lnTo>
                  <a:lnTo>
                    <a:pt x="0" y="88"/>
                  </a:lnTo>
                  <a:lnTo>
                    <a:pt x="0" y="119"/>
                  </a:lnTo>
                  <a:lnTo>
                    <a:pt x="41" y="141"/>
                  </a:lnTo>
                  <a:lnTo>
                    <a:pt x="79" y="150"/>
                  </a:lnTo>
                  <a:lnTo>
                    <a:pt x="105" y="181"/>
                  </a:lnTo>
                  <a:lnTo>
                    <a:pt x="120" y="216"/>
                  </a:lnTo>
                  <a:lnTo>
                    <a:pt x="105" y="247"/>
                  </a:lnTo>
                  <a:lnTo>
                    <a:pt x="67" y="269"/>
                  </a:lnTo>
                  <a:lnTo>
                    <a:pt x="26" y="291"/>
                  </a:lnTo>
                  <a:lnTo>
                    <a:pt x="13" y="322"/>
                  </a:lnTo>
                  <a:lnTo>
                    <a:pt x="0" y="353"/>
                  </a:lnTo>
                  <a:lnTo>
                    <a:pt x="0" y="388"/>
                  </a:lnTo>
                  <a:lnTo>
                    <a:pt x="41" y="410"/>
                  </a:lnTo>
                  <a:lnTo>
                    <a:pt x="79" y="419"/>
                  </a:lnTo>
                  <a:lnTo>
                    <a:pt x="120" y="44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60760" y="2895840"/>
              <a:ext cx="42840" cy="158760"/>
            </a:xfrm>
            <a:custGeom>
              <a:avLst/>
              <a:gdLst/>
              <a:ahLst/>
              <a:rect l="l" t="t" r="r" b="b"/>
              <a:pathLst>
                <a:path w="120" h="442">
                  <a:moveTo>
                    <a:pt x="79" y="0"/>
                  </a:moveTo>
                  <a:lnTo>
                    <a:pt x="66" y="44"/>
                  </a:lnTo>
                  <a:lnTo>
                    <a:pt x="24" y="52"/>
                  </a:lnTo>
                  <a:lnTo>
                    <a:pt x="0" y="88"/>
                  </a:lnTo>
                  <a:lnTo>
                    <a:pt x="0" y="119"/>
                  </a:lnTo>
                  <a:lnTo>
                    <a:pt x="39" y="141"/>
                  </a:lnTo>
                  <a:lnTo>
                    <a:pt x="79" y="150"/>
                  </a:lnTo>
                  <a:lnTo>
                    <a:pt x="104" y="181"/>
                  </a:lnTo>
                  <a:lnTo>
                    <a:pt x="119" y="216"/>
                  </a:lnTo>
                  <a:lnTo>
                    <a:pt x="104" y="247"/>
                  </a:lnTo>
                  <a:lnTo>
                    <a:pt x="66" y="269"/>
                  </a:lnTo>
                  <a:lnTo>
                    <a:pt x="24" y="291"/>
                  </a:lnTo>
                  <a:lnTo>
                    <a:pt x="12" y="322"/>
                  </a:lnTo>
                  <a:lnTo>
                    <a:pt x="0" y="353"/>
                  </a:lnTo>
                  <a:lnTo>
                    <a:pt x="0" y="388"/>
                  </a:lnTo>
                  <a:lnTo>
                    <a:pt x="39" y="410"/>
                  </a:lnTo>
                  <a:lnTo>
                    <a:pt x="79" y="419"/>
                  </a:lnTo>
                  <a:lnTo>
                    <a:pt x="119" y="44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06840" y="3100680"/>
              <a:ext cx="3492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8184240" y="3100680"/>
              <a:ext cx="5220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63400" y="3338640"/>
              <a:ext cx="122400" cy="225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90480" y="2895840"/>
              <a:ext cx="41400" cy="158760"/>
            </a:xfrm>
            <a:custGeom>
              <a:avLst/>
              <a:gdLst/>
              <a:ahLst/>
              <a:rect l="l" t="t" r="r" b="b"/>
              <a:pathLst>
                <a:path w="116" h="442">
                  <a:moveTo>
                    <a:pt x="76" y="0"/>
                  </a:moveTo>
                  <a:lnTo>
                    <a:pt x="65" y="44"/>
                  </a:lnTo>
                  <a:lnTo>
                    <a:pt x="25" y="52"/>
                  </a:lnTo>
                  <a:lnTo>
                    <a:pt x="0" y="88"/>
                  </a:lnTo>
                  <a:lnTo>
                    <a:pt x="0" y="119"/>
                  </a:lnTo>
                  <a:lnTo>
                    <a:pt x="37" y="141"/>
                  </a:lnTo>
                  <a:lnTo>
                    <a:pt x="76" y="150"/>
                  </a:lnTo>
                  <a:lnTo>
                    <a:pt x="103" y="181"/>
                  </a:lnTo>
                  <a:lnTo>
                    <a:pt x="115" y="216"/>
                  </a:lnTo>
                  <a:lnTo>
                    <a:pt x="103" y="247"/>
                  </a:lnTo>
                  <a:lnTo>
                    <a:pt x="65" y="269"/>
                  </a:lnTo>
                  <a:lnTo>
                    <a:pt x="25" y="291"/>
                  </a:lnTo>
                  <a:lnTo>
                    <a:pt x="10" y="322"/>
                  </a:lnTo>
                  <a:lnTo>
                    <a:pt x="0" y="353"/>
                  </a:lnTo>
                  <a:lnTo>
                    <a:pt x="0" y="388"/>
                  </a:lnTo>
                  <a:lnTo>
                    <a:pt x="37" y="410"/>
                  </a:lnTo>
                  <a:lnTo>
                    <a:pt x="76" y="419"/>
                  </a:lnTo>
                  <a:lnTo>
                    <a:pt x="115" y="44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719120" y="2895840"/>
              <a:ext cx="41040" cy="158760"/>
            </a:xfrm>
            <a:custGeom>
              <a:avLst/>
              <a:gdLst/>
              <a:ahLst/>
              <a:rect l="l" t="t" r="r" b="b"/>
              <a:pathLst>
                <a:path w="116" h="442">
                  <a:moveTo>
                    <a:pt x="76" y="0"/>
                  </a:moveTo>
                  <a:lnTo>
                    <a:pt x="65" y="44"/>
                  </a:lnTo>
                  <a:lnTo>
                    <a:pt x="26" y="52"/>
                  </a:lnTo>
                  <a:lnTo>
                    <a:pt x="0" y="88"/>
                  </a:lnTo>
                  <a:lnTo>
                    <a:pt x="0" y="119"/>
                  </a:lnTo>
                  <a:lnTo>
                    <a:pt x="38" y="141"/>
                  </a:lnTo>
                  <a:lnTo>
                    <a:pt x="76" y="150"/>
                  </a:lnTo>
                  <a:lnTo>
                    <a:pt x="104" y="181"/>
                  </a:lnTo>
                  <a:lnTo>
                    <a:pt x="115" y="216"/>
                  </a:lnTo>
                  <a:lnTo>
                    <a:pt x="104" y="247"/>
                  </a:lnTo>
                  <a:lnTo>
                    <a:pt x="65" y="269"/>
                  </a:lnTo>
                  <a:lnTo>
                    <a:pt x="26" y="291"/>
                  </a:lnTo>
                  <a:lnTo>
                    <a:pt x="12" y="322"/>
                  </a:lnTo>
                  <a:lnTo>
                    <a:pt x="0" y="353"/>
                  </a:lnTo>
                  <a:lnTo>
                    <a:pt x="0" y="388"/>
                  </a:lnTo>
                  <a:lnTo>
                    <a:pt x="38" y="410"/>
                  </a:lnTo>
                  <a:lnTo>
                    <a:pt x="76" y="419"/>
                  </a:lnTo>
                  <a:lnTo>
                    <a:pt x="115" y="44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63400" y="3100680"/>
              <a:ext cx="3672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841160" y="3100680"/>
              <a:ext cx="5256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804800" y="2895840"/>
              <a:ext cx="42840" cy="158760"/>
            </a:xfrm>
            <a:custGeom>
              <a:avLst/>
              <a:gdLst/>
              <a:ahLst/>
              <a:rect l="l" t="t" r="r" b="b"/>
              <a:pathLst>
                <a:path w="119" h="442">
                  <a:moveTo>
                    <a:pt x="79" y="0"/>
                  </a:moveTo>
                  <a:lnTo>
                    <a:pt x="63" y="44"/>
                  </a:lnTo>
                  <a:lnTo>
                    <a:pt x="26" y="52"/>
                  </a:lnTo>
                  <a:lnTo>
                    <a:pt x="0" y="88"/>
                  </a:lnTo>
                  <a:lnTo>
                    <a:pt x="0" y="119"/>
                  </a:lnTo>
                  <a:lnTo>
                    <a:pt x="38" y="141"/>
                  </a:lnTo>
                  <a:lnTo>
                    <a:pt x="79" y="150"/>
                  </a:lnTo>
                  <a:lnTo>
                    <a:pt x="106" y="181"/>
                  </a:lnTo>
                  <a:lnTo>
                    <a:pt x="118" y="216"/>
                  </a:lnTo>
                  <a:lnTo>
                    <a:pt x="106" y="247"/>
                  </a:lnTo>
                  <a:lnTo>
                    <a:pt x="63" y="269"/>
                  </a:lnTo>
                  <a:lnTo>
                    <a:pt x="26" y="291"/>
                  </a:lnTo>
                  <a:lnTo>
                    <a:pt x="11" y="322"/>
                  </a:lnTo>
                  <a:lnTo>
                    <a:pt x="0" y="353"/>
                  </a:lnTo>
                  <a:lnTo>
                    <a:pt x="0" y="388"/>
                  </a:lnTo>
                  <a:lnTo>
                    <a:pt x="38" y="410"/>
                  </a:lnTo>
                  <a:lnTo>
                    <a:pt x="79" y="419"/>
                  </a:lnTo>
                  <a:lnTo>
                    <a:pt x="118" y="44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98920" y="3337200"/>
              <a:ext cx="122040" cy="2286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850880" y="3803400"/>
              <a:ext cx="1440" cy="17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685000" y="2840040"/>
              <a:ext cx="38952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051600" y="4897440"/>
            <a:ext cx="2468520" cy="304560"/>
          </a:xfrm>
          <a:prstGeom prst="roundRect">
            <a:avLst>
              <a:gd name="adj" fmla="val 477"/>
            </a:avLst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  <a:effectLst>
            <a:outerShdw dist="10691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9120" y="6107040"/>
            <a:ext cx="8713800" cy="581040"/>
          </a:xfrm>
          <a:prstGeom prst="roundRect">
            <a:avLst>
              <a:gd name="adj" fmla="val 273"/>
            </a:avLst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37200" y="6243480"/>
            <a:ext cx="193824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5c8526"/>
                </a:solidFill>
                <a:latin typeface="Times New Roman"/>
                <a:ea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21360" y="5425920"/>
            <a:ext cx="3205080" cy="439920"/>
          </a:xfrm>
          <a:prstGeom prst="roundRect">
            <a:avLst>
              <a:gd name="adj" fmla="val 361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177600" y="5538600"/>
            <a:ext cx="274320" cy="240120"/>
            <a:chOff x="6177600" y="5538600"/>
            <a:chExt cx="274320" cy="240120"/>
          </a:xfrm>
        </p:grpSpPr>
        <p:sp>
          <p:nvSpPr>
            <p:cNvPr id="231" name=""/>
            <p:cNvSpPr/>
            <p:nvPr/>
          </p:nvSpPr>
          <p:spPr>
            <a:xfrm>
              <a:off x="6186240" y="5586120"/>
              <a:ext cx="257040" cy="1440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77600" y="5538600"/>
              <a:ext cx="2743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828840" y="5538600"/>
            <a:ext cx="274320" cy="240120"/>
            <a:chOff x="6828840" y="5538600"/>
            <a:chExt cx="274320" cy="240120"/>
          </a:xfrm>
        </p:grpSpPr>
        <p:sp>
          <p:nvSpPr>
            <p:cNvPr id="234" name=""/>
            <p:cNvSpPr/>
            <p:nvPr/>
          </p:nvSpPr>
          <p:spPr>
            <a:xfrm>
              <a:off x="6837120" y="5586120"/>
              <a:ext cx="257040" cy="1440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28840" y="5538600"/>
              <a:ext cx="2743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3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2971800" y="5451480"/>
            <a:ext cx="8175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e6ff00"/>
                </a:solidFill>
                <a:latin typeface="Times New Roman"/>
                <a:ea typeface="Times New Roman"/>
              </a:rPr>
              <a:t>CP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08000" y="5438880"/>
            <a:ext cx="71100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e6ff00"/>
                </a:solidFill>
                <a:latin typeface="Times New Roman"/>
                <a:ea typeface="Times New Roman"/>
              </a:rPr>
              <a:t>CP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39440" y="36972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Clust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Multi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C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ompute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308240" y="3780000"/>
            <a:ext cx="7008840" cy="1066320"/>
            <a:chOff x="1308240" y="3780000"/>
            <a:chExt cx="7008840" cy="1066320"/>
          </a:xfrm>
        </p:grpSpPr>
        <p:sp>
          <p:nvSpPr>
            <p:cNvPr id="240" name=""/>
            <p:cNvSpPr/>
            <p:nvPr/>
          </p:nvSpPr>
          <p:spPr>
            <a:xfrm>
              <a:off x="1308240" y="3780000"/>
              <a:ext cx="7008840" cy="106632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17560" y="3957480"/>
              <a:ext cx="29707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800" spc="-1" strike="noStrike">
                  <a:solidFill>
                    <a:srgbClr val="ff7c80"/>
                  </a:solidFill>
                  <a:latin typeface="Times New Roman"/>
                  <a:ea typeface="Times New Roman"/>
                </a:rPr>
                <a:t>MIDDLEWAR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308240" y="1569960"/>
            <a:ext cx="7008840" cy="1066680"/>
            <a:chOff x="1308240" y="1569960"/>
            <a:chExt cx="7008840" cy="1066680"/>
          </a:xfrm>
        </p:grpSpPr>
        <p:sp>
          <p:nvSpPr>
            <p:cNvPr id="243" name=""/>
            <p:cNvSpPr/>
            <p:nvPr/>
          </p:nvSpPr>
          <p:spPr>
            <a:xfrm>
              <a:off x="1308240" y="1569960"/>
              <a:ext cx="7008840" cy="10666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17560" y="1747440"/>
              <a:ext cx="29707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800" spc="-1" strike="noStrike">
                  <a:solidFill>
                    <a:srgbClr val="ff7c80"/>
                  </a:solidFill>
                  <a:latin typeface="Times New Roman"/>
                  <a:ea typeface="Times New Roman"/>
                </a:rPr>
                <a:t>MIDDLEWAR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oftware Parallelism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xploiting computing resour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ata Parallelis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Single Instructions, Multiple Data (SIMD)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9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Data is distributed between multiple instances of the same process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ask parallelis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Multiple Instructions, Multiple Data (MIMD)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luster term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Single Program, Multiple Data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Serial Program, Parallel Systems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9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Running multiple instances of the same program on multiple systems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0">
              <a:lnSpc>
                <a:spcPct val="94000"/>
              </a:lnSpc>
              <a:spcAft>
                <a:spcPts val="1125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ingle System Image (SSI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llusion of single computing resource, created over collection of computer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SI level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Application &amp; Subsystems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OS/kernel level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SI boundarie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When you are inside – cluster is a single resource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When you are outside – cluster is a collection of PCs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-3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allelism &amp; SSI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25640" y="6481800"/>
            <a:ext cx="8605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vels of S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92240" y="3932280"/>
            <a:ext cx="2210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Kernel &amp; 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16280" y="5151600"/>
            <a:ext cx="1143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MOS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16280" y="5837400"/>
            <a:ext cx="99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cJV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68720" y="5216400"/>
            <a:ext cx="993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PV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5837400"/>
            <a:ext cx="990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ClusterP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83360" y="5227560"/>
            <a:ext cx="91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PV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52960" y="3932280"/>
            <a:ext cx="2211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Explicit parallel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21440" y="5075280"/>
            <a:ext cx="916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M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49640" y="3932280"/>
            <a:ext cx="2286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Programming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18120" y="545616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HP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27400" y="52275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Split-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75200" y="5105520"/>
            <a:ext cx="1297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Open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88480" y="56088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174160" y="3932280"/>
            <a:ext cx="1906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Resource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88480" y="5456160"/>
            <a:ext cx="1143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Con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697960" y="5075280"/>
            <a:ext cx="1143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PB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39960" y="4046400"/>
            <a:ext cx="0" cy="1827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73680" y="397044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31080" y="397044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088480" y="397044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68560" y="5456160"/>
            <a:ext cx="1676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Score D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49640" y="5837400"/>
            <a:ext cx="1600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ScaLAP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4160880"/>
            <a:ext cx="1752480" cy="16765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Ideal S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848880" y="5684760"/>
            <a:ext cx="30492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6218280"/>
            <a:ext cx="3059280" cy="1341360"/>
          </a:xfrm>
          <a:prstGeom prst="irregularSeal1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lusters a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NOT t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4160880"/>
            <a:ext cx="1752480" cy="16765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Ideal S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28640" y="4597560"/>
            <a:ext cx="7855200" cy="655560"/>
          </a:xfrm>
          <a:prstGeom prst="leftArrow">
            <a:avLst>
              <a:gd name="adj1" fmla="val 50000"/>
              <a:gd name="adj2" fmla="val 29956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ranspar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68360" y="1135080"/>
            <a:ext cx="9448920" cy="3017880"/>
            <a:chOff x="468360" y="1135080"/>
            <a:chExt cx="9448920" cy="3017880"/>
          </a:xfrm>
        </p:grpSpPr>
        <p:sp>
          <p:nvSpPr>
            <p:cNvPr id="279" name=""/>
            <p:cNvSpPr/>
            <p:nvPr/>
          </p:nvSpPr>
          <p:spPr>
            <a:xfrm>
              <a:off x="954000" y="1135080"/>
              <a:ext cx="860580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Parallelism Granularit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468360" y="1494000"/>
              <a:ext cx="9448920" cy="2658960"/>
              <a:chOff x="468360" y="1494000"/>
              <a:chExt cx="9448920" cy="2658960"/>
            </a:xfrm>
          </p:grpSpPr>
          <p:sp>
            <p:nvSpPr>
              <p:cNvPr id="281" name=""/>
              <p:cNvSpPr/>
              <p:nvPr/>
            </p:nvSpPr>
            <p:spPr>
              <a:xfrm>
                <a:off x="620640" y="2560680"/>
                <a:ext cx="7086600" cy="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68640" y="1963800"/>
                <a:ext cx="19810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roces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873600" y="1944720"/>
                <a:ext cx="19810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Applicati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494400" y="1981080"/>
                <a:ext cx="20574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281000">
                <a:off x="1230480" y="2712960"/>
                <a:ext cx="228600" cy="1447920"/>
              </a:xfrm>
              <a:prstGeom prst="downArrow">
                <a:avLst>
                  <a:gd name="adj1" fmla="val 50000"/>
                  <a:gd name="adj2" fmla="val 158346"/>
                </a:avLst>
              </a:prstGeom>
              <a:solidFill>
                <a:srgbClr val="00b8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896000">
                <a:off x="3179880" y="2603520"/>
                <a:ext cx="303120" cy="1517760"/>
              </a:xfrm>
              <a:prstGeom prst="downArrow">
                <a:avLst>
                  <a:gd name="adj1" fmla="val 50000"/>
                  <a:gd name="adj2" fmla="val 125178"/>
                </a:avLst>
              </a:prstGeom>
              <a:solidFill>
                <a:srgbClr val="00b8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9763400">
                <a:off x="6564240" y="2637000"/>
                <a:ext cx="228600" cy="1447560"/>
              </a:xfrm>
              <a:prstGeom prst="downArrow">
                <a:avLst>
                  <a:gd name="adj1" fmla="val 50000"/>
                  <a:gd name="adj2" fmla="val 158307"/>
                </a:avLst>
              </a:prstGeom>
              <a:solidFill>
                <a:srgbClr val="00b8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8324600">
                <a:off x="8177760" y="2581560"/>
                <a:ext cx="303480" cy="1822320"/>
              </a:xfrm>
              <a:prstGeom prst="downArrow">
                <a:avLst>
                  <a:gd name="adj1" fmla="val 50000"/>
                  <a:gd name="adj2" fmla="val 150119"/>
                </a:avLst>
              </a:prstGeom>
              <a:solidFill>
                <a:srgbClr val="00b8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402680" y="1494000"/>
                <a:ext cx="2514600" cy="182880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ff7c80"/>
                    </a:solidFill>
                    <a:latin typeface="Times New Roman"/>
                  </a:rPr>
                  <a:t>Serial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ff7c80"/>
                    </a:solidFill>
                    <a:latin typeface="Times New Roman"/>
                  </a:rPr>
                  <a:t>applicati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857840" y="2689200"/>
                <a:ext cx="303120" cy="1295280"/>
              </a:xfrm>
              <a:prstGeom prst="downArrow">
                <a:avLst>
                  <a:gd name="adj1" fmla="val 50000"/>
                  <a:gd name="adj2" fmla="val 106829"/>
                </a:avLst>
              </a:prstGeom>
              <a:solidFill>
                <a:srgbClr val="00b8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20260200">
                <a:off x="2406600" y="2643120"/>
                <a:ext cx="303120" cy="1401840"/>
              </a:xfrm>
              <a:prstGeom prst="downArrow">
                <a:avLst>
                  <a:gd name="adj1" fmla="val 50000"/>
                  <a:gd name="adj2" fmla="val 115618"/>
                </a:avLst>
              </a:prstGeom>
              <a:solidFill>
                <a:srgbClr val="00b8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68360" y="1962000"/>
                <a:ext cx="19810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Instructi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752400" y="187200"/>
            <a:ext cx="86076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76160" y="1638360"/>
            <a:ext cx="86090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High performance comp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troduction into Parallel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ffff66"/>
              </a:buClr>
              <a:buSzPct val="90000"/>
              <a:buFont typeface="Wingdings" charset="2"/>
              <a:buChar char="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Hardw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lanning ,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nstallation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&amp;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luster glue – cluster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iddleware and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86040" cy="9716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1263600" y="5473800"/>
            <a:ext cx="73249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Cluster hardwar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Node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Fast CPU, Large RAM, Fast HDD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imes New Roman"/>
              </a:rPr>
              <a:t>Commodity off-the-shelf PCs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imes New Roman"/>
              </a:rPr>
              <a:t>Dual CPU preferred (SMP)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Network interconnec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Low latency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Time to send zero sized packet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High Throughput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imes New Roman"/>
              </a:rPr>
              <a:t>Size of network pipe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ost common case: 1000/</a:t>
            </a: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100 Mb  Etherne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2" marL="1295280" indent="0">
              <a:lnSpc>
                <a:spcPct val="84000"/>
              </a:lnSpc>
              <a:spcAft>
                <a:spcPts val="850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4240" y="81000"/>
            <a:ext cx="860760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uster interconnect proble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54200" y="1374840"/>
            <a:ext cx="8759520" cy="60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High latency ( ~ 0.1 mSec )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&amp;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High CPU utilization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Reasons: multiple copies, interrupts, kernel-mode communication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lution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9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Accelerator cards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oftware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9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VIA (M-VIA for Linux – 23 uSec)  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9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Lightweight user-level protocols: ActiveMessages,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FastMessages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3840" y="13176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at to expec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0840" y="1323720"/>
            <a:ext cx="478944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You will learn...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Basic terms of HPC and Parallel / Distributed systems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What is A Cluster and where it is used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Major challenges and some of their solutions in building / using / </a:t>
            </a:r>
            <a:r>
              <a:rPr b="0" i="1" lang="en-US" sz="2400" spc="-1" strike="noStrike">
                <a:solidFill>
                  <a:srgbClr val="339933"/>
                </a:solidFill>
                <a:latin typeface="Times New Roman"/>
              </a:rPr>
              <a:t>programming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clusters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35440" y="1336320"/>
            <a:ext cx="460368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ff9900"/>
              </a:buClr>
              <a:buSzPct val="45000"/>
              <a:buFont typeface="Wingdings" charset="2"/>
              <a:buChar char="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You will NOT learn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How to use software utilities to build clusters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How to program / debug / profile clusters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Technical details of system administration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Commercial software cluster products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How to build High Availability clusters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2240" y="6289560"/>
            <a:ext cx="9888480" cy="1270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Times New Roman"/>
              </a:rPr>
              <a:t>You can construct cluster yourself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92240" y="6264360"/>
            <a:ext cx="7274160" cy="900000"/>
          </a:xfrm>
          <a:prstGeom prst="star5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82560" y="6045120"/>
            <a:ext cx="6073920" cy="122868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uster Interconnect Proble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nsufficient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roughput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Channel bonding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High performance network interface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+ new PCI bu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SCI, Myrinet, ServerNet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9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Ultra low application-to-application latency (1.4uSec) -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SCI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9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Very high throughput ( 284-350 MB/sec ) –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SCI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10 GB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thernet &amp; Infiniband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94880" y="23148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etwork Topolog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22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witch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Same distance between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neighbors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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Bottleneck for large clusters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Mesh/Torus/Hypercub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Application specific topology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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Difficult broadcast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Both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564240" y="1951200"/>
            <a:ext cx="2057400" cy="1600200"/>
            <a:chOff x="6564240" y="1951200"/>
            <a:chExt cx="2057400" cy="1600200"/>
          </a:xfrm>
        </p:grpSpPr>
        <p:sp>
          <p:nvSpPr>
            <p:cNvPr id="306" name=""/>
            <p:cNvSpPr/>
            <p:nvPr/>
          </p:nvSpPr>
          <p:spPr>
            <a:xfrm>
              <a:off x="6946920" y="2637000"/>
              <a:ext cx="1217520" cy="30456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64240" y="1951200"/>
              <a:ext cx="304920" cy="30456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42280" y="1951200"/>
              <a:ext cx="303120" cy="30456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17080" y="1951200"/>
              <a:ext cx="304560" cy="30456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64240" y="3246480"/>
              <a:ext cx="304920" cy="3049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42280" y="3246480"/>
              <a:ext cx="303120" cy="3049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317080" y="3246480"/>
              <a:ext cx="304560" cy="3049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827760" y="2955600"/>
              <a:ext cx="30636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578720" y="29412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66160" y="2962440"/>
              <a:ext cx="299880" cy="326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591320" y="2259000"/>
              <a:ext cx="0" cy="37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8029440" y="2274480"/>
              <a:ext cx="346320" cy="34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83480" y="2252520"/>
              <a:ext cx="326880" cy="34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7385040" y="4782960"/>
            <a:ext cx="2265480" cy="1990440"/>
            <a:chOff x="7385040" y="4782960"/>
            <a:chExt cx="2265480" cy="1990440"/>
          </a:xfrm>
        </p:grpSpPr>
        <p:grpSp>
          <p:nvGrpSpPr>
            <p:cNvPr id="320" name=""/>
            <p:cNvGrpSpPr/>
            <p:nvPr/>
          </p:nvGrpSpPr>
          <p:grpSpPr>
            <a:xfrm>
              <a:off x="7385040" y="5625720"/>
              <a:ext cx="1294920" cy="1143000"/>
              <a:chOff x="7385040" y="5625720"/>
              <a:chExt cx="1294920" cy="1143000"/>
            </a:xfrm>
          </p:grpSpPr>
          <p:sp>
            <p:nvSpPr>
              <p:cNvPr id="321" name=""/>
              <p:cNvSpPr/>
              <p:nvPr/>
            </p:nvSpPr>
            <p:spPr>
              <a:xfrm>
                <a:off x="7385040" y="5625720"/>
                <a:ext cx="304560" cy="30456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375400" y="5625720"/>
                <a:ext cx="304560" cy="30456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375400" y="6463800"/>
                <a:ext cx="304560" cy="30492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85040" y="6463800"/>
                <a:ext cx="304560" cy="30492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537320" y="5930280"/>
                <a:ext cx="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689600" y="6616080"/>
                <a:ext cx="685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527680" y="5930280"/>
                <a:ext cx="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89600" y="5778000"/>
                <a:ext cx="685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7399440" y="4795560"/>
              <a:ext cx="1295280" cy="304560"/>
              <a:chOff x="7399440" y="4795560"/>
              <a:chExt cx="1295280" cy="304560"/>
            </a:xfrm>
          </p:grpSpPr>
          <p:sp>
            <p:nvSpPr>
              <p:cNvPr id="330" name=""/>
              <p:cNvSpPr/>
              <p:nvPr/>
            </p:nvSpPr>
            <p:spPr>
              <a:xfrm>
                <a:off x="7399440" y="4795560"/>
                <a:ext cx="304920" cy="30456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390160" y="4795560"/>
                <a:ext cx="304560" cy="30456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704360" y="4947840"/>
                <a:ext cx="685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9316800" y="4782960"/>
              <a:ext cx="304920" cy="30456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678880" y="6617880"/>
              <a:ext cx="641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691480" y="5786280"/>
              <a:ext cx="64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691480" y="4952520"/>
              <a:ext cx="614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32640" y="51289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547120" y="50749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489960" y="51289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345600" y="6468840"/>
              <a:ext cx="304920" cy="30456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331200" y="5641560"/>
              <a:ext cx="304920" cy="3049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496440" y="5976720"/>
              <a:ext cx="0" cy="49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199120" y="5121360"/>
            <a:ext cx="1773360" cy="1648800"/>
            <a:chOff x="5199120" y="5121360"/>
            <a:chExt cx="1773360" cy="1648800"/>
          </a:xfrm>
        </p:grpSpPr>
        <p:sp>
          <p:nvSpPr>
            <p:cNvPr id="344" name=""/>
            <p:cNvSpPr/>
            <p:nvPr/>
          </p:nvSpPr>
          <p:spPr>
            <a:xfrm>
              <a:off x="5199120" y="5626440"/>
              <a:ext cx="304920" cy="3049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189840" y="5626440"/>
              <a:ext cx="304920" cy="3049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89840" y="6465240"/>
              <a:ext cx="304920" cy="3049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199120" y="6465240"/>
              <a:ext cx="304920" cy="3049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51760" y="593136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504040" y="661788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42120" y="593136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04040" y="57787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89840" y="5626440"/>
              <a:ext cx="304920" cy="3049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77200" y="5121360"/>
              <a:ext cx="304560" cy="30456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67560" y="5121360"/>
              <a:ext cx="304920" cy="30456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667560" y="5960160"/>
              <a:ext cx="304920" cy="3049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77200" y="5960160"/>
              <a:ext cx="304560" cy="3049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29480" y="5425920"/>
              <a:ext cx="0" cy="53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81760" y="611244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20200" y="5425920"/>
              <a:ext cx="0" cy="53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981760" y="527364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67560" y="5121360"/>
              <a:ext cx="304920" cy="30456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5415120" y="5344560"/>
              <a:ext cx="300240" cy="314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451920" y="5386320"/>
              <a:ext cx="258480" cy="27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437520" y="6233040"/>
              <a:ext cx="299880" cy="314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5454720" y="6218640"/>
              <a:ext cx="285840" cy="299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752400" y="187200"/>
            <a:ext cx="86076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76160" y="1638360"/>
            <a:ext cx="86090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High performance comp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troduction into Parallel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Hardw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ffff66"/>
              </a:buClr>
              <a:buSzPct val="90000"/>
              <a:buFont typeface="Wingdings" charset="2"/>
              <a:buChar char="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lanning ,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nstallation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&amp;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luster glue – cluster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iddleware and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86040" cy="9716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1263600" y="5473800"/>
            <a:ext cx="73249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6948360" y="1638360"/>
            <a:ext cx="2770200" cy="2405520"/>
            <a:chOff x="6948360" y="1638360"/>
            <a:chExt cx="2770200" cy="2405520"/>
          </a:xfrm>
        </p:grpSpPr>
        <p:sp>
          <p:nvSpPr>
            <p:cNvPr id="371" name=""/>
            <p:cNvSpPr/>
            <p:nvPr/>
          </p:nvSpPr>
          <p:spPr>
            <a:xfrm>
              <a:off x="7983360" y="3303720"/>
              <a:ext cx="39564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736120" y="1936800"/>
              <a:ext cx="395280" cy="37944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10360" y="1951200"/>
              <a:ext cx="395280" cy="38088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192800" y="1962000"/>
              <a:ext cx="395280" cy="38124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732880" y="2975040"/>
              <a:ext cx="3952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15200" y="2976480"/>
              <a:ext cx="3952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31160" y="2455920"/>
              <a:ext cx="587520" cy="61272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575480" y="2360520"/>
              <a:ext cx="49212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31040" y="2319480"/>
              <a:ext cx="0" cy="150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8394480" y="2306520"/>
              <a:ext cx="531720" cy="354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711920" y="2906280"/>
              <a:ext cx="382680" cy="19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658280" y="3289320"/>
              <a:ext cx="311040" cy="176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7726320" y="3179520"/>
              <a:ext cx="968400" cy="12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94840" y="2892600"/>
              <a:ext cx="353880" cy="204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8394840" y="3260520"/>
              <a:ext cx="341280" cy="220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8173800" y="3056040"/>
              <a:ext cx="42840" cy="23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948360" y="1638360"/>
              <a:ext cx="2770200" cy="2360520"/>
            </a:xfrm>
            <a:prstGeom prst="rect">
              <a:avLst/>
            </a:prstGeom>
            <a:solidFill>
              <a:srgbClr val="ff9900">
                <a:alpha val="2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02360" y="3586320"/>
              <a:ext cx="2509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Times New Roman"/>
                </a:rPr>
                <a:t>Cluster far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52040" y="42192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uster plann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7991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luster environment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Dedicated 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Cluster farm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3" marL="1504080" indent="-214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Gateway based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lvl="3" marL="1504080" indent="-214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Nodes Exposed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Opportunistic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Nodes are used as work stations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Homogeneous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Heterogeneous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Different OS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Different HW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864480" y="6232680"/>
            <a:ext cx="2676240" cy="1028520"/>
            <a:chOff x="6864480" y="6232680"/>
            <a:chExt cx="2676240" cy="1028520"/>
          </a:xfrm>
        </p:grpSpPr>
        <p:sp>
          <p:nvSpPr>
            <p:cNvPr id="392" name=""/>
            <p:cNvSpPr/>
            <p:nvPr/>
          </p:nvSpPr>
          <p:spPr>
            <a:xfrm>
              <a:off x="6864480" y="6318360"/>
              <a:ext cx="2673360" cy="942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021440" y="6630840"/>
              <a:ext cx="352440" cy="19080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61440" y="6545160"/>
              <a:ext cx="1979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000" spc="-1" strike="noStrike">
                  <a:solidFill>
                    <a:srgbClr val="66ffff"/>
                  </a:solidFill>
                  <a:latin typeface="Times New Roman"/>
                </a:rPr>
                <a:t>User of re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910560" y="6891480"/>
              <a:ext cx="523800" cy="306360"/>
            </a:xfrm>
            <a:prstGeom prst="diamond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97680" y="6380280"/>
              <a:ext cx="351000" cy="190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96360" y="6232680"/>
              <a:ext cx="1763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000" spc="-1" strike="noStrike">
                  <a:solidFill>
                    <a:srgbClr val="66ffff"/>
                  </a:solidFill>
                  <a:latin typeface="Times New Roman"/>
                </a:rPr>
                <a:t>Re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70800" y="6811920"/>
              <a:ext cx="1763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000" spc="-1" strike="noStrike">
                  <a:solidFill>
                    <a:srgbClr val="66ffff"/>
                  </a:solidFill>
                  <a:latin typeface="Times New Roman"/>
                </a:rPr>
                <a:t>Gatewa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5705640" y="3889440"/>
            <a:ext cx="4038480" cy="2279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854680" y="4108320"/>
            <a:ext cx="4226040" cy="2073240"/>
            <a:chOff x="5854680" y="4108320"/>
            <a:chExt cx="4226040" cy="2073240"/>
          </a:xfrm>
        </p:grpSpPr>
        <p:grpSp>
          <p:nvGrpSpPr>
            <p:cNvPr id="401" name=""/>
            <p:cNvGrpSpPr/>
            <p:nvPr/>
          </p:nvGrpSpPr>
          <p:grpSpPr>
            <a:xfrm>
              <a:off x="6919920" y="4311720"/>
              <a:ext cx="901800" cy="560160"/>
              <a:chOff x="6919920" y="4311720"/>
              <a:chExt cx="901800" cy="560160"/>
            </a:xfrm>
          </p:grpSpPr>
          <p:sp>
            <p:nvSpPr>
              <p:cNvPr id="402" name=""/>
              <p:cNvSpPr/>
              <p:nvPr/>
            </p:nvSpPr>
            <p:spPr>
              <a:xfrm>
                <a:off x="6919920" y="4311720"/>
                <a:ext cx="901800" cy="560160"/>
              </a:xfrm>
              <a:prstGeom prst="rect">
                <a:avLst/>
              </a:prstGeom>
              <a:solidFill>
                <a:srgbClr val="969696">
                  <a:alpha val="6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962760" y="4408560"/>
                <a:ext cx="395280" cy="380880"/>
              </a:xfrm>
              <a:prstGeom prst="rect">
                <a:avLst/>
              </a:prstGeom>
              <a:solidFill>
                <a:srgbClr val="00b8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ffff66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385040" y="4422600"/>
                <a:ext cx="3952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8434440" y="4491000"/>
              <a:ext cx="901800" cy="558720"/>
              <a:chOff x="8434440" y="4491000"/>
              <a:chExt cx="901800" cy="558720"/>
            </a:xfrm>
          </p:grpSpPr>
          <p:sp>
            <p:nvSpPr>
              <p:cNvPr id="406" name=""/>
              <p:cNvSpPr/>
              <p:nvPr/>
            </p:nvSpPr>
            <p:spPr>
              <a:xfrm>
                <a:off x="8434440" y="4491000"/>
                <a:ext cx="901800" cy="558720"/>
              </a:xfrm>
              <a:prstGeom prst="rect">
                <a:avLst/>
              </a:prstGeom>
              <a:solidFill>
                <a:srgbClr val="969696">
                  <a:alpha val="6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477280" y="4587480"/>
                <a:ext cx="395280" cy="379800"/>
              </a:xfrm>
              <a:prstGeom prst="rect">
                <a:avLst/>
              </a:prstGeom>
              <a:solidFill>
                <a:srgbClr val="00b8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ffff66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899560" y="4601520"/>
                <a:ext cx="395280" cy="380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7192800" y="5486400"/>
              <a:ext cx="901800" cy="558720"/>
              <a:chOff x="7192800" y="5486400"/>
              <a:chExt cx="901800" cy="558720"/>
            </a:xfrm>
          </p:grpSpPr>
          <p:sp>
            <p:nvSpPr>
              <p:cNvPr id="410" name=""/>
              <p:cNvSpPr/>
              <p:nvPr/>
            </p:nvSpPr>
            <p:spPr>
              <a:xfrm>
                <a:off x="7192800" y="5486400"/>
                <a:ext cx="901800" cy="558720"/>
              </a:xfrm>
              <a:prstGeom prst="rect">
                <a:avLst/>
              </a:prstGeom>
              <a:solidFill>
                <a:srgbClr val="969696">
                  <a:alpha val="6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235640" y="5582880"/>
                <a:ext cx="395280" cy="379800"/>
              </a:xfrm>
              <a:prstGeom prst="rect">
                <a:avLst/>
              </a:prstGeom>
              <a:solidFill>
                <a:srgbClr val="00b8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ffff66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657920" y="5596920"/>
                <a:ext cx="395280" cy="380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7275600" y="4898880"/>
              <a:ext cx="299880" cy="58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8136000" y="5051160"/>
              <a:ext cx="695160" cy="695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826400" y="4570560"/>
              <a:ext cx="60948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854680" y="4108320"/>
              <a:ext cx="4226040" cy="2073240"/>
            </a:xfrm>
            <a:prstGeom prst="ellipse">
              <a:avLst/>
            </a:prstGeom>
            <a:solidFill>
              <a:srgbClr val="000000">
                <a:alpha val="1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uster planning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luster workload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Why to discuss this? You should know what to expect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Scaling: does adding new PC really help?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Serial workload – running independent jobs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Purpose: high throughput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Cost for application developer: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Scaling: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linear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Parallel workload – running distributed applications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Purpose: high performance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Cost for application developer: High in general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Scaling: depends on the problem and usually not linear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4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Cluster Installatio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Too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nstallation tools </a:t>
            </a: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requirement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Centralized management of initial configurations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Easy 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and quick to </a:t>
            </a: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add/remove cluster node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Automation (Unattended install)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Remote installation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Common approach (SystemImager,SIS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Server holds several generic</a:t>
            </a: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 image of cluster-node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Automatic initial image deployment 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imes New Roman"/>
              </a:rPr>
              <a:t>First boot from CD/floppy/</a:t>
            </a: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NW</a:t>
            </a:r>
            <a:r>
              <a:rPr b="0" lang="en-GB" sz="2000" spc="-1" strike="noStrike">
                <a:solidFill>
                  <a:srgbClr val="66ffff"/>
                </a:solidFill>
                <a:latin typeface="Times New Roman"/>
              </a:rPr>
              <a:t> invokes installation scripts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Use of 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post-boot </a:t>
            </a: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auto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configuration (DHCP)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Next boot – ready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to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use system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53840" y="968400"/>
            <a:ext cx="86072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uster Installation Challenges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9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itial image is usually large ( ~ 300MB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79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Slow deployment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over network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79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Synchronization between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nodes 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79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olution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79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Use Root on NFS for cluster nodes (HUJI – CLIP)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79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Very fast deployment – 25 Nodes for 15 minutes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79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All Cluster nodes backup on one disk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79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Easy configuration update (even when a node is off-line)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79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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NFS server: Single point of failure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79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Use of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shared FS (</a:t>
            </a: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NFS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0">
              <a:lnSpc>
                <a:spcPct val="79000"/>
              </a:lnSpc>
              <a:spcAft>
                <a:spcPts val="850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26840" y="939960"/>
            <a:ext cx="860580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uster system management and monitori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quirement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Single management console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Cluster-wide policy enforcement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Cluster partitioning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Common configuration 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Keep all nodes synchronized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Clock synchronization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Single login and user environment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Cluster-wide event-log and problem notification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utomatic problem determination and self-healing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0">
              <a:lnSpc>
                <a:spcPct val="84000"/>
              </a:lnSpc>
              <a:spcAft>
                <a:spcPts val="1125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4640" y="790560"/>
            <a:ext cx="80758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Cluster system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nagement too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51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egular system administration tool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Handy services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coming with LINUX</a:t>
            </a: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yp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configuration files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autofs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– mount management, </a:t>
            </a: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dhcp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– network parameters, </a:t>
            </a: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ssh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/rsh – remote command execution, ntp -  clock synchronization, NFS – shared file system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luster-wid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C3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(OSCAR cluster toolkit) 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Cluster-wide … 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3" marL="1727280" indent="-216000">
              <a:lnSpc>
                <a:spcPct val="84000"/>
              </a:lnSpc>
              <a:spcAft>
                <a:spcPts val="561"/>
              </a:spcAft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Command invocation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3" marL="1727280" indent="-216000">
              <a:lnSpc>
                <a:spcPct val="84000"/>
              </a:lnSpc>
              <a:spcAft>
                <a:spcPts val="561"/>
              </a:spcAft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Files management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Nodes Registry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39440" y="600120"/>
            <a:ext cx="86072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Cluster system management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o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uster-wide policy enforcemen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66ffff"/>
                </a:solidFill>
                <a:latin typeface="Times New Roman"/>
              </a:rPr>
              <a:t>Problem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9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Nodes are sometimes down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9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Long execution 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66ffff"/>
                </a:solidFill>
                <a:latin typeface="Times New Roman"/>
              </a:rPr>
              <a:t>Solution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9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Single policy - Distributed Execution (cfengine)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9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Continious policy enforcement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3" marL="1727280" indent="-216000">
              <a:lnSpc>
                <a:spcPct val="94000"/>
              </a:lnSpc>
              <a:spcAft>
                <a:spcPts val="561"/>
              </a:spcAft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Run-time monitoring and correction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2400" y="18720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6160" y="1638000"/>
            <a:ext cx="8609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ffff66"/>
              </a:buClr>
              <a:buSzPct val="90000"/>
              <a:buFont typeface="Wingdings" charset="2"/>
              <a:buChar char="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High performance computing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troduction into Parallel World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Hardware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lanning ,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nstallation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&amp; Management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luster glue – cluster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iddleware and tool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86040" cy="97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63600" y="5473800"/>
            <a:ext cx="732492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uster system monitoring too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awkeye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Logs important events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Triggers for problematic situations (disk space/CPU load/memory/daemons)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2800" spc="-1" strike="noStrike">
                <a:solidFill>
                  <a:srgbClr val="66ffff"/>
                </a:solidFill>
                <a:latin typeface="Times New Roman"/>
              </a:rPr>
              <a:t>Performs specified actions when critical situation occurs </a:t>
            </a:r>
            <a:r>
              <a:rPr b="0" i="1" lang="en-US" sz="2000" spc="-1" strike="noStrike">
                <a:solidFill>
                  <a:srgbClr val="66ffff"/>
                </a:solidFill>
                <a:latin typeface="Times New Roman"/>
              </a:rPr>
              <a:t>(Not implemented yet)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Gangli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Monitoring of vital system resources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Multi-cluster environment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ll-in-one Cluster tool ki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C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opensce.org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Installation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Monitoring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Kernel modules for cluster wide process management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SCAR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oscar.sourceforge.net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ROC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http:/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www.rocksclusters.org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Snapshot of available cluster installation/management/usage tools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752400" y="187200"/>
            <a:ext cx="86076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76160" y="1638360"/>
            <a:ext cx="86090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High performance comp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troduction into Parallel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Hardw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lanning ,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nstallation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&amp;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ffff66"/>
              </a:buClr>
              <a:buSzPct val="90000"/>
              <a:buFont typeface="Wingdings" charset="2"/>
              <a:buChar char="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luster glue – cluster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iddleware and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86040" cy="9716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1263600" y="5473800"/>
            <a:ext cx="73249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39440" y="600120"/>
            <a:ext cx="86072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Cluster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lue - 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middle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39440" y="1760400"/>
            <a:ext cx="860724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Various levels of Single System Image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Comprehensive solutions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(Open)MOSIX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ClusterVM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( java virtual machine for cluster )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SCore (User Level OS)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Linux SSI project (High availability)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Components of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SSI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Cluster </a:t>
            </a: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File system (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PVFS,</a:t>
            </a: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GFS, xFS,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Distributed RAID)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Cluster-wide PID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(Beowulf)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Single point of entry </a:t>
            </a: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(Beowulf)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4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39440" y="600120"/>
            <a:ext cx="86072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uster middle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66440" y="2101680"/>
            <a:ext cx="86072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Resource management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7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Batch-queue systems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7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Condor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7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OpenPBS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7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Software libraries and environme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7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Software DSM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discolab.rutgers.edu/projects/dsm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7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MPI, PVM, BSP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7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Omni OpenMP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7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Parallel debuggers and profiling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7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PARADYN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7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TotalVIEW ( </a:t>
            </a:r>
            <a:r>
              <a:rPr b="1" i="1" lang="en-US" sz="2400" spc="-1" strike="noStrike">
                <a:solidFill>
                  <a:srgbClr val="ff7c80"/>
                </a:solidFill>
                <a:latin typeface="Times New Roman"/>
              </a:rPr>
              <a:t>NOT free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0">
              <a:lnSpc>
                <a:spcPct val="74000"/>
              </a:lnSpc>
              <a:spcAft>
                <a:spcPts val="1125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0">
              <a:lnSpc>
                <a:spcPct val="74000"/>
              </a:lnSpc>
              <a:spcAft>
                <a:spcPts val="1125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3" dur="500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4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39440" y="600120"/>
            <a:ext cx="86072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uster operating system </a:t>
            </a: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Case Study – (open)MOSIX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83800" cy="54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utomatic load balancing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Use sophisticated algorithms to estimate node load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Process migration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Home node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Migrating part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Memory ushering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Avoid thrashing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Parallel I/O (MOPI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Bring application to the data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All disk operations are local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5281560" y="3075120"/>
            <a:ext cx="4341960" cy="33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7" dur="500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8" dur="500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39440" y="600120"/>
            <a:ext cx="86072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uster operating system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ase Study – (open)MOSIX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(con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0" y="2198160"/>
            <a:ext cx="45417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Ease of use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Transparency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Suitable for multi-user environment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Sophisticated scheduling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Scalability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Automatic parallelization of multi-process applications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46227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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Generic load balancing not always appropriate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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Migration restrictions 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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Intensive </a:t>
            </a: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I/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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Shared memory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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Problem with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explicitly </a:t>
            </a: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parallel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/distributed</a:t>
            </a: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 applications (MPI/PVM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/OpenMP</a:t>
            </a: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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OS - homogeneous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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Times New Roman"/>
              </a:rPr>
              <a:t>NO QUEUEING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atch queuing cluster system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90040" y="3615840"/>
            <a:ext cx="4226040" cy="37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ssumes opportunistic environme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Resources may fail/station shutdown 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anages heterogeneous environme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MS W2K/XP, Linux, Solaris, Alpha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calable (2K nodes running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27200" y="3657240"/>
            <a:ext cx="42274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owerful policy manageme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lexibility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odularity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ingle configuration poi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User/Job prioritie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erl API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AG job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0" y="1336680"/>
            <a:ext cx="10080720" cy="9954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874800" y="2292480"/>
            <a:ext cx="758664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Times New Roman"/>
              </a:rPr>
              <a:t>Goal: To steal unused cyc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resource is not in use and release when back to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1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5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0" dur="500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3" dur="500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6" dur="500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Condo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basic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Job is submitted with submission fil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7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Job requirements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7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Job preferences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7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Uses ClassAds to match between resources and jobs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7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Every resource publishes its capabilities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7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Every job publishes its requirements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7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tarts single job on single resourc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7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Many virtual resources may be defined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7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eriodic check-pointing </a:t>
            </a: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(requires lib linkage)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 marL="431640" indent="-323640">
              <a:lnSpc>
                <a:spcPct val="7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f resource fails – restarts from the last check-poi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3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6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0" dur="500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5" dur="500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8" dur="500"/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3" dur="500"/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8" dur="500"/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Condo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in Israe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en-Gurion university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50 CPUs pilot installation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echnion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Pilot installation in DS lab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Possible modules developments for Condor high availability enhancements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Hopefully further adoption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8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3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6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9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600120"/>
            <a:ext cx="86072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HPC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 characteristic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9400" y="1760400"/>
            <a:ext cx="8607600" cy="50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Requires TFLOPS, soon PFLOPS ( 2</a:t>
            </a:r>
            <a:r>
              <a:rPr b="0" lang="en-GB" sz="2800" spc="-1" strike="noStrike" baseline="30000">
                <a:solidFill>
                  <a:srgbClr val="00ffff"/>
                </a:solidFill>
                <a:latin typeface="Times New Roman"/>
              </a:rPr>
              <a:t>50</a:t>
            </a:r>
            <a:r>
              <a:rPr b="0" lang="en-GB" sz="2800" spc="-1" strike="noStrike" baseline="33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Just to feel it: P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-IV XEON 2.4G – 540 MFLOPS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Huge memory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(TBytes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Grand challenge applications ( CFD, Earth simulations, weather forecasts...)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Large data set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(PBytes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Experimental d</a:t>
            </a: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ata analysis ( CERN - Nuclear research )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imes New Roman"/>
              </a:rPr>
              <a:t>Tens of TB</a:t>
            </a: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ytes </a:t>
            </a:r>
            <a:r>
              <a:rPr b="0" lang="en-GB" sz="2000" spc="-1" strike="noStrike">
                <a:solidFill>
                  <a:srgbClr val="66ffff"/>
                </a:solidFill>
                <a:latin typeface="Times New Roman"/>
              </a:rPr>
              <a:t>daily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Long runs (days, months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Time ~ Precision ( usually NOT linear )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imes New Roman"/>
              </a:rPr>
              <a:t>CFD -&gt; 2 X precision =&gt; 8 X time 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lusters are very cost efficient means of computing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You can speed up your work with little effort and no money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You should not necessarily be a CS professional to construct cluste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You can build cluster with FREE tool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ith cluster you can use idle cycles of other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uster info sour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7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he-IL" sz="2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hpc</a:t>
            </a:r>
            <a:r>
              <a:rPr b="0" lang="he-IL" sz="24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devchannel</a:t>
            </a:r>
            <a:r>
              <a:rPr b="0" lang="he-IL" sz="24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org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7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http://sourceforge.net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7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h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ttp://www.clustercomputing.org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7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0"/>
              </a:rPr>
              <a:t>http://www.linuxclustersinstitute.org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7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1"/>
              </a:rPr>
              <a:t>http://www.cs.mu.oz.au/~raj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(!!!!)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7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2"/>
              </a:rPr>
              <a:t>http://dsonline.computer.org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7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3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4"/>
              </a:rPr>
              <a:t>www.topclusters.org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7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ook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7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Gregory F. Pfister, “In search of clusters”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7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Raj. Buyya  (ed), “High Performance Cluster Computing”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1879560" y="3112920"/>
            <a:ext cx="5743440" cy="305784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50680" y="1472760"/>
            <a:ext cx="8569080" cy="16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 end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PC: Supercompute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892656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Not general-purpose machines, MP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431640" indent="-323640">
              <a:lnSpc>
                <a:spcPct val="7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State of the art ( from TOP500 list 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7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NEC: EarthSimulator </a:t>
            </a:r>
            <a:r>
              <a:rPr b="1" lang="en-GB" sz="2400" spc="-1" strike="noStrike">
                <a:solidFill>
                  <a:srgbClr val="ff7c80"/>
                </a:solidFill>
                <a:latin typeface="Times New Roman"/>
              </a:rPr>
              <a:t>35860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TFLOPS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7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imes New Roman"/>
              </a:rPr>
              <a:t>640X8 CPUs, 10 TB memory, </a:t>
            </a: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700 TB disk-space, 1.6 PB mass store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7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imes New Roman"/>
              </a:rPr>
              <a:t>Area of  computer = 4 tennis co</a:t>
            </a: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u</a:t>
            </a:r>
            <a:r>
              <a:rPr b="0" lang="en-GB" sz="2000" spc="-1" strike="noStrike">
                <a:solidFill>
                  <a:srgbClr val="66ffff"/>
                </a:solidFill>
                <a:latin typeface="Times New Roman"/>
              </a:rPr>
              <a:t>rts, 3 floors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7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HP: ASCI Q, 7727 TFLOPS (4096 CPUs)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7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IBM: ASCI white, 7226 TFLOPS (8192 CPUs)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7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dc2300"/>
                </a:solidFill>
                <a:latin typeface="Times New Roman"/>
              </a:rPr>
              <a:t>Linux</a:t>
            </a: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 NetworX:  5694 TFLOPS, (2304 XEON P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 CPUs)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7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Prices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7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CRAY: $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90.000.000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veryday HP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Examples from everyday lif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Independent runs with different sets of parameters 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Monte Carlo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Physical simulations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Multimedia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Rendering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MPEG encoding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You name it….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100" spc="-1" strike="noStrike">
                <a:solidFill>
                  <a:srgbClr val="ff9900"/>
                </a:solidFill>
                <a:latin typeface="Times New Roman"/>
              </a:rPr>
              <a:t>Do we really need Cray for this???</a:t>
            </a:r>
            <a:endParaRPr b="0" lang="en-US" sz="4100" spc="-1" strike="noStrike">
              <a:solidFill>
                <a:srgbClr val="00ffff"/>
              </a:solidFill>
              <a:latin typeface="Times New Roman"/>
            </a:endParaRPr>
          </a:p>
          <a:p>
            <a:pPr marL="431640"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1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5680" y="441360"/>
            <a:ext cx="86072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Cluster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 “Poor man's Cray”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5680" y="1707840"/>
            <a:ext cx="86072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oPs, COW, CLUMPS NOW, Beowulf….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ifferent names, same s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mple ide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Collection of interconnected whole computers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Used as single unified computer resource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31640" indent="-323640">
              <a:lnSpc>
                <a:spcPct val="8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Motivation: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861840" indent="-285480">
              <a:lnSpc>
                <a:spcPct val="84000"/>
              </a:lnSpc>
              <a:spcAft>
                <a:spcPts val="1125"/>
              </a:spcAft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ff7c80"/>
                </a:solidFill>
                <a:uFillTx/>
                <a:latin typeface="Times New Roman"/>
              </a:rPr>
              <a:t>HIGH</a:t>
            </a:r>
            <a:r>
              <a:rPr b="1" lang="en-GB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performance for </a:t>
            </a:r>
            <a:r>
              <a:rPr b="1" lang="en-GB" sz="2800" spc="-1" strike="noStrike" u="sng">
                <a:solidFill>
                  <a:srgbClr val="ff7c80"/>
                </a:solidFill>
                <a:uFillTx/>
                <a:latin typeface="Times New Roman"/>
              </a:rPr>
              <a:t>LOW</a:t>
            </a:r>
            <a:r>
              <a:rPr b="1" lang="en-GB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66ffff"/>
                </a:solidFill>
                <a:latin typeface="Times New Roman"/>
              </a:rPr>
              <a:t>price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CFD Simulation runs </a:t>
            </a:r>
            <a:r>
              <a:rPr b="1" lang="en-GB" sz="3200" spc="-1" strike="noStrike">
                <a:solidFill>
                  <a:srgbClr val="66ffff"/>
                </a:solidFill>
                <a:latin typeface="Times New Roman"/>
              </a:rPr>
              <a:t>2 weeks (336 hours)</a:t>
            </a: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on single PC. It runs </a:t>
            </a:r>
            <a:r>
              <a:rPr b="1" lang="en-GB" sz="3600" spc="-1" strike="noStrike" u="sng">
                <a:solidFill>
                  <a:srgbClr val="66ffff"/>
                </a:solidFill>
                <a:uFillTx/>
                <a:latin typeface="Times New Roman"/>
              </a:rPr>
              <a:t>28 HOURS</a:t>
            </a:r>
            <a:r>
              <a:rPr b="0" lang="en-GB" sz="2400" spc="-1" strike="noStrike">
                <a:solidFill>
                  <a:srgbClr val="66ffff"/>
                </a:solidFill>
                <a:latin typeface="Times New Roman"/>
              </a:rPr>
              <a:t> on cluster of  20 Pcs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  <a:p>
            <a:pPr lvl="2" marL="1295280" indent="-215640">
              <a:lnSpc>
                <a:spcPct val="84000"/>
              </a:lnSpc>
              <a:spcAft>
                <a:spcPts val="850"/>
              </a:spcAft>
              <a:buClr>
                <a:srgbClr val="ffffff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10000 Runs each one 1 minute. Total ~ </a:t>
            </a:r>
            <a:r>
              <a:rPr b="1" lang="en-GB" sz="3600" spc="-1" strike="noStrike" u="sng">
                <a:solidFill>
                  <a:srgbClr val="ffff66"/>
                </a:solidFill>
                <a:uFillTx/>
                <a:latin typeface="Times New Roman"/>
              </a:rPr>
              <a:t>7 days</a:t>
            </a:r>
            <a:r>
              <a:rPr b="1" lang="en-GB" sz="3600" spc="-1" strike="noStrike">
                <a:solidFill>
                  <a:srgbClr val="ffff66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 With cluster if 100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Cs</a:t>
            </a: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 ~ </a:t>
            </a:r>
            <a:r>
              <a:rPr b="1" lang="en-GB" sz="3600" spc="-1" strike="noStrike" u="sng">
                <a:solidFill>
                  <a:srgbClr val="ffff66"/>
                </a:solidFill>
                <a:uFillTx/>
                <a:latin typeface="Times New Roman"/>
              </a:rPr>
              <a:t>1.6 hours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2880" y="69696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Why clusters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&amp;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    Why now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20048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66ff33"/>
                </a:solidFill>
                <a:latin typeface="Times New Roman"/>
              </a:rPr>
              <a:t>Price/Performanc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vailability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ncremental growth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pgradeability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Potentially infinite scaling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431640" indent="-323640">
              <a:lnSpc>
                <a:spcPct val="94000"/>
              </a:lnSpc>
              <a:spcAft>
                <a:spcPts val="1426"/>
              </a:spcAft>
              <a:buClr>
                <a:srgbClr val="00ccff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ccff"/>
                </a:solidFill>
                <a:latin typeface="Times New Roman"/>
              </a:rPr>
              <a:t>Scavenging </a:t>
            </a:r>
            <a:r>
              <a:rPr b="1" i="1" lang="en-US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ccff"/>
                </a:solidFill>
                <a:latin typeface="Times New Roman"/>
              </a:rPr>
              <a:t>(Cycle stealing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760" y="2101320"/>
            <a:ext cx="4227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dvances in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CPU capacity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Advances in Network Technology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ools availability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tandartisation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INUX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d41"/>
            </a:gs>
            <a:gs pos="100000">
              <a:srgbClr val="8488c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6080" y="271440"/>
            <a:ext cx="860724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y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cluste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087800" y="3017880"/>
            <a:ext cx="5861160" cy="3786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997520" y="3335400"/>
            <a:ext cx="33782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lel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6680" y="3017880"/>
            <a:ext cx="4406760" cy="3773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4360" y="3321000"/>
            <a:ext cx="2921040" cy="3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8280" y="1347840"/>
            <a:ext cx="76356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1295280" indent="-215640">
              <a:lnSpc>
                <a:spcPct val="83000"/>
              </a:lnSpc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nstal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5280" indent="-215640">
              <a:lnSpc>
                <a:spcPct val="83000"/>
              </a:lnSpc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Administration &amp;Mainte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5280" indent="-215640">
              <a:lnSpc>
                <a:spcPct val="83000"/>
              </a:lnSpc>
              <a:buClr>
                <a:srgbClr val="000000"/>
              </a:buClr>
              <a:buSzPct val="90000"/>
              <a:buFont typeface="Wingdings" charset="2"/>
              <a:buChar char="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fficult programming mod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43200" y="3659040"/>
            <a:ext cx="1351080" cy="1078200"/>
          </a:xfrm>
          <a:prstGeom prst="leftRightArrow">
            <a:avLst>
              <a:gd name="adj1" fmla="val 50000"/>
              <a:gd name="adj2" fmla="val 2494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35320" y="3125880"/>
            <a:ext cx="38268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spcBef>
                <a:spcPts val="37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k Silberstein</cp:lastModifiedBy>
  <dcterms:modified xsi:type="dcterms:W3CDTF">2002-12-09T15:17:35Z</dcterms:modified>
  <cp:revision>69</cp:revision>
  <dc:subject/>
  <dc:title>Slide 1</dc:title>
</cp:coreProperties>
</file>