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280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556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280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556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DAB90-6F8C-4351-8B94-040D19A1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BEE59-76E6-43A9-839C-9644F76C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D1F41-EC85-4D7E-A15E-983EED21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B8F7-65DA-48B0-8552-4A23353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2CC12-BE8D-47CF-AC9C-5C465104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FE286-C126-4A4E-8CF6-F54ABA8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3C8FC-C90D-4190-BF5F-B8B70D76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EA927-C184-4325-946F-174D3869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1B46E-9577-4AF9-A9E9-11E08D88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88E47-0FF1-4DA0-8919-755EC04B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ACC86-A030-46F2-A6CB-DEB3289C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6280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556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6280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2556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EEA94-BEED-4034-BDE0-4AF31282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826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826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5640" y="0"/>
            <a:ext cx="1728360" cy="6865560"/>
            <a:chOff x="741564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 flipH="1">
              <a:off x="83440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4156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75764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5600000">
              <a:off x="787176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05156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7204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89252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89252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892520" indent="-2102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0D0E-8478-4934-9684-E01284B1280C}" type="datetime"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7144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46160" y="6261120"/>
          <a:ext cx="312408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160" y="6261120"/>
                    <a:ext cx="3124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04920" y="4514760"/>
          <a:ext cx="746748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514760"/>
                    <a:ext cx="7467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7415640" y="0"/>
            <a:ext cx="1728360" cy="6865560"/>
            <a:chOff x="7415640" y="0"/>
            <a:chExt cx="1728360" cy="6865560"/>
          </a:xfrm>
        </p:grpSpPr>
        <p:sp>
          <p:nvSpPr>
            <p:cNvPr id="50" name=""/>
            <p:cNvSpPr/>
            <p:nvPr/>
          </p:nvSpPr>
          <p:spPr>
            <a:xfrm flipH="1">
              <a:off x="83440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4156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57640" y="0"/>
              <a:ext cx="1066680" cy="6856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5600000">
              <a:off x="787176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EFA4-D8A8-4B24-B73B-2E504F5B9B78}" type="datetime"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29714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CED9-C0BD-4957-B016-D7C16906F1C9}" type="slidenum">
              <a:rPr b="0" lang="he-IL" sz="1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Times New Roman"/>
              </a:rPr>
              <a:t>ORDBMS - </a:t>
            </a:r>
            <a:r>
              <a:rPr b="0" lang="he-IL" sz="4800" spc="-1" strike="noStrike">
                <a:solidFill>
                  <a:srgbClr val="336699"/>
                </a:solidFill>
                <a:latin typeface="Times New Roman"/>
              </a:rPr>
              <a:t>העתיד כבר כאן</a:t>
            </a:r>
            <a:br>
              <a:rPr sz="4800"/>
            </a:br>
            <a:br>
              <a:rPr sz="4800"/>
            </a:br>
            <a:r>
              <a:rPr b="0" lang="he-IL" sz="4400" spc="-1" strike="noStrike">
                <a:solidFill>
                  <a:srgbClr val="6c2867"/>
                </a:solidFill>
                <a:latin typeface="Times New Roman"/>
              </a:rPr>
              <a:t>ארכיטקטורה ושימוש</a:t>
            </a:r>
            <a:br>
              <a:rPr sz="4400"/>
            </a:br>
            <a:br>
              <a:rPr sz="4400"/>
            </a:br>
            <a:r>
              <a:rPr b="0" lang="he-IL" sz="3200" spc="-1" strike="noStrike">
                <a:solidFill>
                  <a:srgbClr val="336699"/>
                </a:solidFill>
                <a:latin typeface="Times New Roman"/>
              </a:rPr>
              <a:t>אסף ארבלי</a:t>
            </a:r>
            <a:br>
              <a:rPr sz="3200"/>
            </a:br>
            <a:r>
              <a:rPr b="0" lang="he-IL" sz="3200" spc="-1" strike="noStrike">
                <a:solidFill>
                  <a:srgbClr val="336699"/>
                </a:solidFill>
                <a:latin typeface="Times New Roman"/>
              </a:rPr>
              <a:t>קומסופט טכנולוגיות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4038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9E7381-E3D8-4B15-8F55-48AD084A9664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פונקציות -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UD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P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כתיבת פונקציות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ל אלגוריתם הממומש בשפת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/Jav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perator Overload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imary/Secondary Access Method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E4206-4942-48A2-B7AE-7CC6467D60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כלליות סוגי המידע החדשים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כל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ata Type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שקול לחלוטין לטיפוסי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QL 92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חסון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עיבוד מקבילי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יסוף נתונים סטטיסטיים לגב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נתונ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s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אופטימיזציה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שתתפות בביטוי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D08CA-41C1-446C-9B85-2A23F0660E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763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גוון של סוגי מידע חדשים לנושא מסו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ואופרטורים הפועלים על סוגים אלו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טות מיפתוח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תיעוד והדגמות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0066ff"/>
                </a:solidFill>
                <a:latin typeface="Arial"/>
              </a:rPr>
              <a:t>מיטב הטכנולוגיה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1212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600" spc="-1" strike="noStrike">
                <a:solidFill>
                  <a:srgbClr val="0066ff"/>
                </a:solidFill>
                <a:latin typeface="Arial"/>
              </a:rPr>
              <a:t>של המומחים בתחומם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9F951-D388-4B71-9E2E-C54365169F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8560" y="5313240"/>
            <a:ext cx="303120" cy="273240"/>
          </a:xfrm>
          <a:custGeom>
            <a:avLst/>
            <a:gdLst/>
            <a:ahLst/>
            <a:rect l="l" t="t" r="r" b="b"/>
            <a:pathLst>
              <a:path w="177" h="201">
                <a:moveTo>
                  <a:pt x="168" y="200"/>
                </a:moveTo>
                <a:lnTo>
                  <a:pt x="0" y="144"/>
                </a:lnTo>
                <a:lnTo>
                  <a:pt x="88" y="28"/>
                </a:lnTo>
                <a:lnTo>
                  <a:pt x="176" y="0"/>
                </a:lnTo>
                <a:lnTo>
                  <a:pt x="168" y="200"/>
                </a:lnTo>
              </a:path>
            </a:pathLst>
          </a:custGeom>
          <a:gradFill rotWithShape="0">
            <a:gsLst>
              <a:gs pos="0">
                <a:srgbClr val="960017"/>
              </a:gs>
              <a:gs pos="100000">
                <a:srgbClr val="fc0128"/>
              </a:gs>
            </a:gsLst>
            <a:lin ang="8100000"/>
          </a:gradFill>
          <a:ln cap="rnd"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6480" y="3430440"/>
            <a:ext cx="303120" cy="271440"/>
          </a:xfrm>
          <a:custGeom>
            <a:avLst/>
            <a:gdLst/>
            <a:ahLst/>
            <a:rect l="l" t="t" r="r" b="b"/>
            <a:pathLst>
              <a:path w="177" h="201">
                <a:moveTo>
                  <a:pt x="168" y="200"/>
                </a:moveTo>
                <a:lnTo>
                  <a:pt x="0" y="144"/>
                </a:lnTo>
                <a:lnTo>
                  <a:pt x="88" y="28"/>
                </a:lnTo>
                <a:lnTo>
                  <a:pt x="176" y="0"/>
                </a:lnTo>
                <a:lnTo>
                  <a:pt x="168" y="200"/>
                </a:lnTo>
              </a:path>
            </a:pathLst>
          </a:custGeom>
          <a:gradFill rotWithShape="0">
            <a:gsLst>
              <a:gs pos="0">
                <a:srgbClr val="960017"/>
              </a:gs>
              <a:gs pos="100000">
                <a:srgbClr val="fc0128"/>
              </a:gs>
            </a:gsLst>
            <a:lin ang="8100000"/>
          </a:gradFill>
          <a:ln cap="rnd"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2643120"/>
            <a:ext cx="303120" cy="273240"/>
          </a:xfrm>
          <a:custGeom>
            <a:avLst/>
            <a:gdLst/>
            <a:ahLst/>
            <a:rect l="l" t="t" r="r" b="b"/>
            <a:pathLst>
              <a:path w="177" h="201">
                <a:moveTo>
                  <a:pt x="168" y="200"/>
                </a:moveTo>
                <a:lnTo>
                  <a:pt x="0" y="144"/>
                </a:lnTo>
                <a:lnTo>
                  <a:pt x="88" y="28"/>
                </a:lnTo>
                <a:lnTo>
                  <a:pt x="176" y="0"/>
                </a:lnTo>
                <a:lnTo>
                  <a:pt x="168" y="200"/>
                </a:lnTo>
              </a:path>
            </a:pathLst>
          </a:custGeom>
          <a:gradFill rotWithShape="0">
            <a:gsLst>
              <a:gs pos="0">
                <a:srgbClr val="960017"/>
              </a:gs>
              <a:gs pos="100000">
                <a:srgbClr val="fc0128"/>
              </a:gs>
            </a:gsLst>
            <a:lin ang="8100000"/>
          </a:gradFill>
          <a:ln cap="rnd" w="255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2898720"/>
            <a:ext cx="1737000" cy="81000"/>
          </a:xfrm>
          <a:custGeom>
            <a:avLst/>
            <a:gdLst/>
            <a:ahLst/>
            <a:rect l="l" t="t" r="r" b="b"/>
            <a:pathLst>
              <a:path w="1015" h="60">
                <a:moveTo>
                  <a:pt x="965" y="59"/>
                </a:moveTo>
                <a:lnTo>
                  <a:pt x="1014" y="0"/>
                </a:lnTo>
                <a:lnTo>
                  <a:pt x="48" y="0"/>
                </a:lnTo>
                <a:lnTo>
                  <a:pt x="0" y="59"/>
                </a:lnTo>
                <a:lnTo>
                  <a:pt x="965" y="59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4880" y="3208320"/>
            <a:ext cx="82800" cy="196920"/>
          </a:xfrm>
          <a:custGeom>
            <a:avLst/>
            <a:gdLst/>
            <a:ahLst/>
            <a:rect l="l" t="t" r="r" b="b"/>
            <a:pathLst>
              <a:path w="49" h="145">
                <a:moveTo>
                  <a:pt x="0" y="144"/>
                </a:moveTo>
                <a:lnTo>
                  <a:pt x="0" y="48"/>
                </a:lnTo>
                <a:lnTo>
                  <a:pt x="48" y="0"/>
                </a:lnTo>
                <a:lnTo>
                  <a:pt x="48" y="96"/>
                </a:lnTo>
                <a:lnTo>
                  <a:pt x="0" y="144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8120" y="2978280"/>
            <a:ext cx="84240" cy="131760"/>
          </a:xfrm>
          <a:custGeom>
            <a:avLst/>
            <a:gdLst/>
            <a:ahLst/>
            <a:rect l="l" t="t" r="r" b="b"/>
            <a:pathLst>
              <a:path w="49" h="97">
                <a:moveTo>
                  <a:pt x="0" y="0"/>
                </a:moveTo>
                <a:lnTo>
                  <a:pt x="48" y="48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2480" y="2967120"/>
            <a:ext cx="1888920" cy="441360"/>
          </a:xfrm>
          <a:custGeom>
            <a:avLst/>
            <a:gdLst/>
            <a:ahLst/>
            <a:rect l="l" t="t" r="r" b="b"/>
            <a:pathLst>
              <a:path w="1105" h="326">
                <a:moveTo>
                  <a:pt x="960" y="0"/>
                </a:moveTo>
                <a:lnTo>
                  <a:pt x="960" y="108"/>
                </a:lnTo>
                <a:lnTo>
                  <a:pt x="1104" y="54"/>
                </a:lnTo>
                <a:lnTo>
                  <a:pt x="1104" y="270"/>
                </a:lnTo>
                <a:lnTo>
                  <a:pt x="960" y="216"/>
                </a:lnTo>
                <a:lnTo>
                  <a:pt x="960" y="325"/>
                </a:lnTo>
                <a:lnTo>
                  <a:pt x="0" y="325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24360" y="2978280"/>
            <a:ext cx="83880" cy="326880"/>
          </a:xfrm>
          <a:custGeom>
            <a:avLst/>
            <a:gdLst/>
            <a:ahLst/>
            <a:rect l="l" t="t" r="r" b="b"/>
            <a:pathLst>
              <a:path w="49" h="241">
                <a:moveTo>
                  <a:pt x="0" y="240"/>
                </a:moveTo>
                <a:lnTo>
                  <a:pt x="48" y="192"/>
                </a:lnTo>
                <a:lnTo>
                  <a:pt x="48" y="0"/>
                </a:lnTo>
                <a:lnTo>
                  <a:pt x="0" y="48"/>
                </a:lnTo>
                <a:lnTo>
                  <a:pt x="0" y="24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8120" y="2978280"/>
            <a:ext cx="330120" cy="131760"/>
          </a:xfrm>
          <a:custGeom>
            <a:avLst/>
            <a:gdLst/>
            <a:ahLst/>
            <a:rect l="l" t="t" r="r" b="b"/>
            <a:pathLst>
              <a:path w="193" h="97">
                <a:moveTo>
                  <a:pt x="0" y="96"/>
                </a:moveTo>
                <a:lnTo>
                  <a:pt x="48" y="48"/>
                </a:lnTo>
                <a:lnTo>
                  <a:pt x="192" y="0"/>
                </a:lnTo>
                <a:lnTo>
                  <a:pt x="144" y="48"/>
                </a:lnTo>
                <a:lnTo>
                  <a:pt x="0" y="96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120" y="2913120"/>
            <a:ext cx="84240" cy="196920"/>
          </a:xfrm>
          <a:custGeom>
            <a:avLst/>
            <a:gdLst/>
            <a:ahLst/>
            <a:rect l="l" t="t" r="r" b="b"/>
            <a:pathLst>
              <a:path w="49" h="145">
                <a:moveTo>
                  <a:pt x="0" y="144"/>
                </a:moveTo>
                <a:lnTo>
                  <a:pt x="0" y="48"/>
                </a:lnTo>
                <a:lnTo>
                  <a:pt x="48" y="0"/>
                </a:lnTo>
                <a:lnTo>
                  <a:pt x="48" y="96"/>
                </a:lnTo>
                <a:lnTo>
                  <a:pt x="0" y="144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1540000">
            <a:off x="1122480" y="2916000"/>
            <a:ext cx="16984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taBlade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dule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36560" y="3635280"/>
            <a:ext cx="1606680" cy="131760"/>
          </a:xfrm>
          <a:custGeom>
            <a:avLst/>
            <a:gdLst/>
            <a:ahLst/>
            <a:rect l="l" t="t" r="r" b="b"/>
            <a:pathLst>
              <a:path w="939" h="97">
                <a:moveTo>
                  <a:pt x="938" y="87"/>
                </a:moveTo>
                <a:lnTo>
                  <a:pt x="935" y="0"/>
                </a:lnTo>
                <a:lnTo>
                  <a:pt x="106" y="3"/>
                </a:lnTo>
                <a:lnTo>
                  <a:pt x="0" y="87"/>
                </a:lnTo>
                <a:lnTo>
                  <a:pt x="0" y="96"/>
                </a:lnTo>
                <a:lnTo>
                  <a:pt x="938" y="87"/>
                </a:lnTo>
              </a:path>
            </a:pathLst>
          </a:custGeom>
          <a:solidFill>
            <a:srgbClr val="00808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28640" y="2270160"/>
            <a:ext cx="189072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a7a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17840" y="4505400"/>
            <a:ext cx="1890360" cy="39348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dfd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31880" y="4889520"/>
            <a:ext cx="189072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f0f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17840" y="4106880"/>
            <a:ext cx="189036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cdc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31880" y="1859040"/>
            <a:ext cx="1890720" cy="3920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9797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0440" y="1676520"/>
            <a:ext cx="1915920" cy="201600"/>
          </a:xfrm>
          <a:custGeom>
            <a:avLst/>
            <a:gdLst/>
            <a:ahLst/>
            <a:rect l="l" t="t" r="r" b="b"/>
            <a:pathLst>
              <a:path w="1120" h="148">
                <a:moveTo>
                  <a:pt x="969" y="139"/>
                </a:moveTo>
                <a:lnTo>
                  <a:pt x="1119" y="0"/>
                </a:lnTo>
                <a:lnTo>
                  <a:pt x="135" y="3"/>
                </a:lnTo>
                <a:lnTo>
                  <a:pt x="0" y="147"/>
                </a:lnTo>
                <a:lnTo>
                  <a:pt x="969" y="139"/>
                </a:lnTo>
              </a:path>
            </a:pathLst>
          </a:custGeom>
          <a:solidFill>
            <a:srgbClr val="00808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840" y="3747960"/>
            <a:ext cx="1890360" cy="393840"/>
          </a:xfrm>
          <a:custGeom>
            <a:avLst/>
            <a:gdLst/>
            <a:ahLst/>
            <a:rect l="l" t="t" r="r" b="b"/>
            <a:pathLst>
              <a:path w="1105" h="289">
                <a:moveTo>
                  <a:pt x="960" y="0"/>
                </a:moveTo>
                <a:lnTo>
                  <a:pt x="960" y="96"/>
                </a:lnTo>
                <a:lnTo>
                  <a:pt x="1104" y="48"/>
                </a:lnTo>
                <a:lnTo>
                  <a:pt x="1104" y="240"/>
                </a:lnTo>
                <a:lnTo>
                  <a:pt x="960" y="192"/>
                </a:lnTo>
                <a:lnTo>
                  <a:pt x="960" y="288"/>
                </a:lnTo>
                <a:lnTo>
                  <a:pt x="0" y="288"/>
                </a:lnTo>
                <a:lnTo>
                  <a:pt x="0" y="0"/>
                </a:lnTo>
                <a:lnTo>
                  <a:pt x="960" y="0"/>
                </a:lnTo>
              </a:path>
            </a:pathLst>
          </a:custGeom>
          <a:solidFill>
            <a:srgbClr val="00bab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57800" y="1682640"/>
            <a:ext cx="2506680" cy="4027680"/>
          </a:xfrm>
          <a:prstGeom prst="cube">
            <a:avLst>
              <a:gd name="adj" fmla="val 9791"/>
            </a:avLst>
          </a:prstGeom>
          <a:solidFill>
            <a:srgbClr val="66ccff"/>
          </a:solidFill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4680" y="1676520"/>
            <a:ext cx="1319400" cy="4039920"/>
          </a:xfrm>
          <a:custGeom>
            <a:avLst/>
            <a:gdLst/>
            <a:ahLst/>
            <a:rect l="l" t="t" r="r" b="b"/>
            <a:pathLst>
              <a:path w="771" h="2977">
                <a:moveTo>
                  <a:pt x="2" y="144"/>
                </a:moveTo>
                <a:lnTo>
                  <a:pt x="173" y="0"/>
                </a:lnTo>
                <a:lnTo>
                  <a:pt x="770" y="0"/>
                </a:lnTo>
                <a:lnTo>
                  <a:pt x="642" y="144"/>
                </a:lnTo>
                <a:lnTo>
                  <a:pt x="642" y="162"/>
                </a:lnTo>
                <a:lnTo>
                  <a:pt x="642" y="288"/>
                </a:lnTo>
                <a:lnTo>
                  <a:pt x="471" y="288"/>
                </a:lnTo>
                <a:lnTo>
                  <a:pt x="471" y="384"/>
                </a:lnTo>
                <a:lnTo>
                  <a:pt x="642" y="384"/>
                </a:lnTo>
                <a:lnTo>
                  <a:pt x="642" y="816"/>
                </a:lnTo>
                <a:lnTo>
                  <a:pt x="471" y="816"/>
                </a:lnTo>
                <a:lnTo>
                  <a:pt x="471" y="912"/>
                </a:lnTo>
                <a:lnTo>
                  <a:pt x="642" y="912"/>
                </a:lnTo>
                <a:lnTo>
                  <a:pt x="642" y="1440"/>
                </a:lnTo>
                <a:lnTo>
                  <a:pt x="471" y="1440"/>
                </a:lnTo>
                <a:lnTo>
                  <a:pt x="471" y="1536"/>
                </a:lnTo>
                <a:lnTo>
                  <a:pt x="642" y="1536"/>
                </a:lnTo>
                <a:lnTo>
                  <a:pt x="642" y="2112"/>
                </a:lnTo>
                <a:lnTo>
                  <a:pt x="471" y="2112"/>
                </a:lnTo>
                <a:lnTo>
                  <a:pt x="471" y="2208"/>
                </a:lnTo>
                <a:lnTo>
                  <a:pt x="642" y="2208"/>
                </a:lnTo>
                <a:lnTo>
                  <a:pt x="642" y="2736"/>
                </a:lnTo>
                <a:lnTo>
                  <a:pt x="471" y="2736"/>
                </a:lnTo>
                <a:lnTo>
                  <a:pt x="471" y="2832"/>
                </a:lnTo>
                <a:lnTo>
                  <a:pt x="642" y="2832"/>
                </a:lnTo>
                <a:lnTo>
                  <a:pt x="642" y="2976"/>
                </a:lnTo>
                <a:lnTo>
                  <a:pt x="2" y="2976"/>
                </a:lnTo>
                <a:lnTo>
                  <a:pt x="2" y="2832"/>
                </a:lnTo>
                <a:lnTo>
                  <a:pt x="173" y="2880"/>
                </a:lnTo>
                <a:lnTo>
                  <a:pt x="173" y="2688"/>
                </a:lnTo>
                <a:lnTo>
                  <a:pt x="2" y="2736"/>
                </a:lnTo>
                <a:lnTo>
                  <a:pt x="2" y="2544"/>
                </a:lnTo>
                <a:lnTo>
                  <a:pt x="173" y="2592"/>
                </a:lnTo>
                <a:lnTo>
                  <a:pt x="173" y="2400"/>
                </a:lnTo>
                <a:lnTo>
                  <a:pt x="2" y="2448"/>
                </a:lnTo>
                <a:lnTo>
                  <a:pt x="2" y="2256"/>
                </a:lnTo>
                <a:lnTo>
                  <a:pt x="173" y="2304"/>
                </a:lnTo>
                <a:lnTo>
                  <a:pt x="173" y="2112"/>
                </a:lnTo>
                <a:lnTo>
                  <a:pt x="2" y="2160"/>
                </a:lnTo>
                <a:lnTo>
                  <a:pt x="2" y="1968"/>
                </a:lnTo>
                <a:lnTo>
                  <a:pt x="173" y="2016"/>
                </a:lnTo>
                <a:lnTo>
                  <a:pt x="173" y="1824"/>
                </a:lnTo>
                <a:lnTo>
                  <a:pt x="2" y="1872"/>
                </a:lnTo>
                <a:lnTo>
                  <a:pt x="2" y="1728"/>
                </a:lnTo>
                <a:lnTo>
                  <a:pt x="173" y="1758"/>
                </a:lnTo>
                <a:lnTo>
                  <a:pt x="173" y="1569"/>
                </a:lnTo>
                <a:lnTo>
                  <a:pt x="2" y="1632"/>
                </a:lnTo>
                <a:lnTo>
                  <a:pt x="2" y="1440"/>
                </a:lnTo>
                <a:lnTo>
                  <a:pt x="173" y="1488"/>
                </a:lnTo>
                <a:lnTo>
                  <a:pt x="173" y="1296"/>
                </a:lnTo>
                <a:lnTo>
                  <a:pt x="2" y="1344"/>
                </a:lnTo>
                <a:lnTo>
                  <a:pt x="2" y="1152"/>
                </a:lnTo>
                <a:lnTo>
                  <a:pt x="159" y="1212"/>
                </a:lnTo>
                <a:lnTo>
                  <a:pt x="159" y="984"/>
                </a:lnTo>
                <a:lnTo>
                  <a:pt x="0" y="1035"/>
                </a:lnTo>
                <a:lnTo>
                  <a:pt x="2" y="864"/>
                </a:lnTo>
                <a:lnTo>
                  <a:pt x="173" y="912"/>
                </a:lnTo>
                <a:lnTo>
                  <a:pt x="173" y="720"/>
                </a:lnTo>
                <a:lnTo>
                  <a:pt x="2" y="768"/>
                </a:lnTo>
                <a:lnTo>
                  <a:pt x="2" y="624"/>
                </a:lnTo>
                <a:lnTo>
                  <a:pt x="173" y="672"/>
                </a:lnTo>
                <a:lnTo>
                  <a:pt x="173" y="480"/>
                </a:lnTo>
                <a:lnTo>
                  <a:pt x="2" y="528"/>
                </a:lnTo>
                <a:lnTo>
                  <a:pt x="2" y="336"/>
                </a:lnTo>
                <a:lnTo>
                  <a:pt x="173" y="384"/>
                </a:lnTo>
                <a:lnTo>
                  <a:pt x="173" y="192"/>
                </a:lnTo>
                <a:lnTo>
                  <a:pt x="2" y="240"/>
                </a:lnTo>
                <a:lnTo>
                  <a:pt x="2" y="144"/>
                </a:lnTo>
              </a:path>
            </a:pathLst>
          </a:custGeom>
          <a:gradFill rotWithShape="0">
            <a:gsLst>
              <a:gs pos="0">
                <a:srgbClr val="af001b"/>
              </a:gs>
              <a:gs pos="50000">
                <a:srgbClr val="fc0128"/>
              </a:gs>
              <a:gs pos="100000">
                <a:srgbClr val="af001b"/>
              </a:gs>
            </a:gsLst>
            <a:lin ang="5400000"/>
          </a:gradFill>
          <a:ln cap="rnd" w="507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2753280" y="3320280"/>
            <a:ext cx="226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ataBlade API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43360" y="2036880"/>
            <a:ext cx="16732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QL-3 Pars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64120" y="2698920"/>
            <a:ext cx="12636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ptimiz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8920" y="3405240"/>
            <a:ext cx="21211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unction Manag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99440" y="4170240"/>
            <a:ext cx="1890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ccess Methods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7800" y="4889520"/>
            <a:ext cx="21938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SA Data Manager</a:t>
            </a:r>
            <a:endParaRPr b="0" lang="en-US" sz="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67000" y="1871640"/>
            <a:ext cx="1094040" cy="0"/>
          </a:xfrm>
          <a:prstGeom prst="line">
            <a:avLst/>
          </a:prstGeom>
          <a:ln w="507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73400" y="2793960"/>
            <a:ext cx="506520" cy="93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3520" y="3646440"/>
            <a:ext cx="396720" cy="98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87800" y="4548240"/>
            <a:ext cx="506520" cy="921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87800" y="5405400"/>
            <a:ext cx="411120" cy="98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81320" y="2073240"/>
            <a:ext cx="506520" cy="921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2E6E8-A430-4FAC-B5CC-905AB50F85A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17560" y="1905120"/>
            <a:ext cx="5757840" cy="3797280"/>
            <a:chOff x="817560" y="1905120"/>
            <a:chExt cx="5757840" cy="3797280"/>
          </a:xfrm>
        </p:grpSpPr>
        <p:sp>
          <p:nvSpPr>
            <p:cNvPr id="166" name=""/>
            <p:cNvSpPr/>
            <p:nvPr/>
          </p:nvSpPr>
          <p:spPr>
            <a:xfrm>
              <a:off x="4881600" y="1905120"/>
              <a:ext cx="1693800" cy="1068120"/>
            </a:xfrm>
            <a:custGeom>
              <a:avLst/>
              <a:gdLst/>
              <a:ahLst/>
              <a:rect l="l" t="t" r="r" b="b"/>
              <a:pathLst>
                <a:path w="1067" h="673">
                  <a:moveTo>
                    <a:pt x="0" y="0"/>
                  </a:moveTo>
                  <a:lnTo>
                    <a:pt x="810" y="0"/>
                  </a:lnTo>
                  <a:lnTo>
                    <a:pt x="810" y="192"/>
                  </a:lnTo>
                  <a:lnTo>
                    <a:pt x="1066" y="48"/>
                  </a:lnTo>
                  <a:lnTo>
                    <a:pt x="1066" y="480"/>
                  </a:lnTo>
                  <a:lnTo>
                    <a:pt x="959" y="416"/>
                  </a:lnTo>
                  <a:lnTo>
                    <a:pt x="810" y="336"/>
                  </a:lnTo>
                  <a:lnTo>
                    <a:pt x="810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d4d4"/>
                </a:gs>
                <a:gs pos="100000">
                  <a:srgbClr val="00979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12960" y="2895480"/>
              <a:ext cx="284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78200" y="2133720"/>
              <a:ext cx="1694160" cy="1068120"/>
            </a:xfrm>
            <a:custGeom>
              <a:avLst/>
              <a:gdLst/>
              <a:ahLst/>
              <a:rect l="l" t="t" r="r" b="b"/>
              <a:pathLst>
                <a:path w="1067" h="673">
                  <a:moveTo>
                    <a:pt x="0" y="0"/>
                  </a:moveTo>
                  <a:lnTo>
                    <a:pt x="810" y="0"/>
                  </a:lnTo>
                  <a:lnTo>
                    <a:pt x="810" y="192"/>
                  </a:lnTo>
                  <a:lnTo>
                    <a:pt x="1066" y="48"/>
                  </a:lnTo>
                  <a:lnTo>
                    <a:pt x="1066" y="480"/>
                  </a:lnTo>
                  <a:lnTo>
                    <a:pt x="959" y="416"/>
                  </a:lnTo>
                  <a:lnTo>
                    <a:pt x="810" y="336"/>
                  </a:lnTo>
                  <a:lnTo>
                    <a:pt x="810" y="672"/>
                  </a:lnTo>
                  <a:lnTo>
                    <a:pt x="0" y="67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64120" y="1981080"/>
              <a:ext cx="611280" cy="459000"/>
            </a:xfrm>
            <a:custGeom>
              <a:avLst/>
              <a:gdLst/>
              <a:ahLst/>
              <a:rect l="l" t="t" r="r" b="b"/>
              <a:pathLst>
                <a:path w="385" h="289">
                  <a:moveTo>
                    <a:pt x="0" y="288"/>
                  </a:moveTo>
                  <a:lnTo>
                    <a:pt x="128" y="144"/>
                  </a:lnTo>
                  <a:lnTo>
                    <a:pt x="384" y="0"/>
                  </a:lnTo>
                  <a:lnTo>
                    <a:pt x="256" y="144"/>
                  </a:lnTo>
                  <a:lnTo>
                    <a:pt x="0" y="288"/>
                  </a:lnTo>
                </a:path>
              </a:pathLst>
            </a:custGeom>
            <a:gradFill rotWithShape="0">
              <a:gsLst>
                <a:gs pos="0">
                  <a:srgbClr val="19afaf"/>
                </a:gs>
                <a:gs pos="100000">
                  <a:srgbClr val="00a7a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70560" y="1981080"/>
              <a:ext cx="204840" cy="916200"/>
            </a:xfrm>
            <a:custGeom>
              <a:avLst/>
              <a:gdLst/>
              <a:ahLst/>
              <a:rect l="l" t="t" r="r" b="b"/>
              <a:pathLst>
                <a:path w="129" h="577">
                  <a:moveTo>
                    <a:pt x="0" y="144"/>
                  </a:moveTo>
                  <a:lnTo>
                    <a:pt x="128" y="0"/>
                  </a:lnTo>
                  <a:lnTo>
                    <a:pt x="128" y="432"/>
                  </a:lnTo>
                  <a:lnTo>
                    <a:pt x="0" y="576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98d4d4"/>
                </a:gs>
                <a:gs pos="100000">
                  <a:srgbClr val="00979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9440" y="2647800"/>
              <a:ext cx="209520" cy="554040"/>
            </a:xfrm>
            <a:custGeom>
              <a:avLst/>
              <a:gdLst/>
              <a:ahLst/>
              <a:rect l="l" t="t" r="r" b="b"/>
              <a:pathLst>
                <a:path w="132" h="349">
                  <a:moveTo>
                    <a:pt x="3" y="348"/>
                  </a:moveTo>
                  <a:lnTo>
                    <a:pt x="3" y="12"/>
                  </a:lnTo>
                  <a:lnTo>
                    <a:pt x="0" y="0"/>
                  </a:lnTo>
                  <a:lnTo>
                    <a:pt x="131" y="84"/>
                  </a:lnTo>
                  <a:lnTo>
                    <a:pt x="131" y="204"/>
                  </a:lnTo>
                  <a:lnTo>
                    <a:pt x="3" y="348"/>
                  </a:lnTo>
                </a:path>
              </a:pathLst>
            </a:custGeom>
            <a:gradFill rotWithShape="0">
              <a:gsLst>
                <a:gs pos="0">
                  <a:srgbClr val="98d4d4"/>
                </a:gs>
                <a:gs pos="100000">
                  <a:srgbClr val="009797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560" y="1905120"/>
              <a:ext cx="1490760" cy="230040"/>
            </a:xfrm>
            <a:custGeom>
              <a:avLst/>
              <a:gdLst/>
              <a:ahLst/>
              <a:rect l="l" t="t" r="r" b="b"/>
              <a:pathLst>
                <a:path w="939" h="145">
                  <a:moveTo>
                    <a:pt x="0" y="144"/>
                  </a:moveTo>
                  <a:lnTo>
                    <a:pt x="127" y="0"/>
                  </a:lnTo>
                  <a:lnTo>
                    <a:pt x="938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03480" y="1905120"/>
              <a:ext cx="1492200" cy="230040"/>
            </a:xfrm>
            <a:custGeom>
              <a:avLst/>
              <a:gdLst/>
              <a:ahLst/>
              <a:rect l="l" t="t" r="r" b="b"/>
              <a:pathLst>
                <a:path w="940" h="145">
                  <a:moveTo>
                    <a:pt x="0" y="144"/>
                  </a:moveTo>
                  <a:lnTo>
                    <a:pt x="128" y="0"/>
                  </a:lnTo>
                  <a:lnTo>
                    <a:pt x="939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90840" y="1905120"/>
              <a:ext cx="1492200" cy="230040"/>
            </a:xfrm>
            <a:custGeom>
              <a:avLst/>
              <a:gdLst/>
              <a:ahLst/>
              <a:rect l="l" t="t" r="r" b="b"/>
              <a:pathLst>
                <a:path w="940" h="145">
                  <a:moveTo>
                    <a:pt x="0" y="144"/>
                  </a:moveTo>
                  <a:lnTo>
                    <a:pt x="128" y="0"/>
                  </a:lnTo>
                  <a:lnTo>
                    <a:pt x="939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78200" y="1905120"/>
              <a:ext cx="1490760" cy="230040"/>
            </a:xfrm>
            <a:custGeom>
              <a:avLst/>
              <a:gdLst/>
              <a:ahLst/>
              <a:rect l="l" t="t" r="r" b="b"/>
              <a:pathLst>
                <a:path w="939" h="145">
                  <a:moveTo>
                    <a:pt x="0" y="144"/>
                  </a:moveTo>
                  <a:lnTo>
                    <a:pt x="127" y="0"/>
                  </a:lnTo>
                  <a:lnTo>
                    <a:pt x="938" y="0"/>
                  </a:lnTo>
                  <a:lnTo>
                    <a:pt x="810" y="144"/>
                  </a:lnTo>
                  <a:lnTo>
                    <a:pt x="0" y="144"/>
                  </a:lnTo>
                </a:path>
              </a:pathLst>
            </a:cu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cap="rnd"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91960" y="2255760"/>
              <a:ext cx="12438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QL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face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97320" y="2139840"/>
              <a:ext cx="1274760" cy="1054080"/>
            </a:xfrm>
            <a:prstGeom prst="rect">
              <a:avLst/>
            </a:pr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09960" y="2139840"/>
              <a:ext cx="1274760" cy="1054080"/>
            </a:xfrm>
            <a:prstGeom prst="rect">
              <a:avLst/>
            </a:pr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4040" y="2139840"/>
              <a:ext cx="1272960" cy="1054080"/>
            </a:xfrm>
            <a:prstGeom prst="rect">
              <a:avLst/>
            </a:prstGeom>
            <a:gradFill rotWithShape="0">
              <a:gsLst>
                <a:gs pos="0">
                  <a:srgbClr val="198c8c"/>
                </a:gs>
                <a:gs pos="100000">
                  <a:srgbClr val="008080"/>
                </a:gs>
              </a:gsLst>
              <a:lin ang="8100000"/>
            </a:gra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440" y="2255760"/>
              <a:ext cx="917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ype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96680" y="2255760"/>
              <a:ext cx="12283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cces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thod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0400" y="2362320"/>
              <a:ext cx="139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unction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0200" y="4219560"/>
              <a:ext cx="14554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tructure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43800" y="5095800"/>
              <a:ext cx="14130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Behavior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10080" y="4219560"/>
              <a:ext cx="134136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Indexing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Schemes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(optional)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577960" y="2945880"/>
              <a:ext cx="0" cy="203220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4480" y="5095800"/>
              <a:ext cx="12848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Interface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Arial"/>
                </a:rPr>
                <a:t>to Server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427040" y="2945880"/>
              <a:ext cx="0" cy="1194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32280" y="2945880"/>
              <a:ext cx="0" cy="1194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354640" y="2945880"/>
              <a:ext cx="0" cy="203220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DB8D8-CE66-4C43-A792-0EC59F9F8D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ORDBM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extensibl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database for storage, manipulation and efficient access to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all types</a:t>
            </a:r>
            <a:r>
              <a:rPr b="1" i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f data using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ile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aintaining RDBMS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performanc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flexibilit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scalabilit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12905-AFD2-4DFE-A7ED-A6BFBC09D9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שימושים אפשריים בארגון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חברת הביטוח “מבצר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טפלת במספר סוגי מידע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פוליסות ביטוח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תביעות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תמונות הרכבים המבוטחים - “לפני ואחרי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דוחות חוקרי תאונות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ידע על מיקום תאונות ובעלי מקצוע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3200" spc="-1" strike="noStrike">
                <a:solidFill>
                  <a:srgbClr val="336699"/>
                </a:solidFill>
                <a:latin typeface="Arial"/>
              </a:rPr>
              <a:t>כיצד יש לארגן ולאחסן את המידע 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667DE-B7CA-4B11-9C84-55F77DD7FE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דרישות טכניות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אחסון ושליפת תמונות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ניהול תמונות של התאונות ומסמכים קשור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חיפושי טקסט מתקדמים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ציאת דוחות תאונה דומ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ציאת מוסכים בהתבסס על תאור התיקון הדרוש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ניתוח גיאוגרפי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ציאת מוסכים הקרובים לבית או לעבודה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כאמצעי גישה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331A2-1704-4757-AA38-E502AF02DF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מודל המידע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גדרת טיפוסי המידע הדרושים. (פוליסה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ירושה. (ביטוח רכב, דירה, חיים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גדרת הפונקציות הדרושות ( ()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alu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unction Overloading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ריקה ואחסון של מסמכים ותמונות (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C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ata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תאימ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228C8-6EF7-4E8E-AE93-701552BDBA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תחומי שימוש ב-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ata Blad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76200"/>
            <a:ext cx="777240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ניהול מסמכ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חיפושי טקסט מתקדמי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eoSpat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חיפוש גיאוגרפי (הכלה, השקה, מרחק ועוד…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מידע גיאודטי (חיפוש ע”פ כתובת, מיקוד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Financi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ניתוח סדרות עיתיות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gital Med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05600" indent="-271440" algn="r" rtl="1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336699"/>
                </a:solidFill>
                <a:latin typeface="Arial"/>
              </a:rPr>
              <a:t>עיבוד וזיהוי של תמונה, וידאו וקול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71892-970D-4831-BF7B-ECE4DE859F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סדר היום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הו ה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FORMIX Universal Serve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ים אפשריים בארגון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יכום - העתיד כבר כאן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BDD23-712F-447C-8428-1913A78210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xt Data Blad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ext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Verit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xcalibu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formi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סוג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c-Tre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השוואת מסמכים (עד כמה דומים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חיפושי טקסט מתקדמים (הכלה, מרחק בין מילים, מספר מופעים ועוד…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ניהול מסמכים (גרסאות, הסבת סוג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68DAF-707B-4321-A083-6C354906F7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xt Data Blades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תאונות כרוכות בצד הלא נכון של הכביש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LECT count(*) FROM claim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RE accident_date &gt; “1-1-97” AN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ntains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(report, ‘(“wrong”, “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side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”, “road”)’)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F4478-62E3-497D-B802-4C9ED6A403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Text Data Blades (3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ציאת דוחות תאונה הדומים לדו’ח מסו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LECT c2.rep_id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ROM claims c1, claims c2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RE c1.rep_id = 10039 AND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Matches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( c1.report, c2.report ) &gt; 0.75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58805-C2F4-4847-96F6-EC1DC9A971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GeoSpatial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apInfo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GeoCoding, Spatial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elConta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Global Interv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SRI (ArcInfo)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Spatial Database Engin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ציאת קואורדינטות ע”פ כתובת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חישובי פיזור גיאוגרפי, מרחק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סוג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-Tre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F998F-4024-4451-8600-93AA2ABDB7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 (2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2529000"/>
          <a:ext cx="6738840" cy="35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29000"/>
                    <a:ext cx="673884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998720" y="1523880"/>
            <a:ext cx="519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336699"/>
                </a:solidFill>
                <a:latin typeface="Times New Roman"/>
                <a:cs typeface="Arial (Hebrew)"/>
              </a:rPr>
              <a:t>כמה לקוחות גרים בתחום נתון?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F1A68-4AA6-4014-A155-DF7059DCED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 (3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לקוחות גרים בתחום נתון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ECT count(*) FROM customer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(home_loc, poly(x1, y1, x2, y2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home_area &gt; 100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ECT count(*) FROM customers 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addrToGeoloc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(home_addr)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ox(x1, y1, x2, y2) )… 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44E10-E1EC-4EE6-90CE-65DA449F0A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GeoSpatial Data Blades (4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תאונות הכרוכות בנסיעה בצד הלא נכון של הכביש, קרו באזור מסוים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LECT count(*) FROM clai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(location, box(x1, y1, x2, y2) 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contains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(report, (“wrong”, “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side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”, “road”))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יזה חיתוך יבוצע קודם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0368C-E766-49CD-8106-605DA4D1D3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R-Tree Usage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523880"/>
          <a:ext cx="408780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40878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66760" y="4095720"/>
            <a:ext cx="750564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6699"/>
                </a:solidFill>
                <a:latin typeface="Arial"/>
                <a:cs typeface="Arial (Hebrew)"/>
              </a:rPr>
              <a:t>טווח תאריכים הופך לנקודה במרחב: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Arial (Hebrew)"/>
              </a:rPr>
              <a:t>beg_date Between ‘DT1’ and ‘DT2’  AND end_date Between ‘DT3’ and ‘DT4’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000" spc="-1" strike="noStrike">
                <a:solidFill>
                  <a:srgbClr val="336699"/>
                </a:solidFill>
                <a:latin typeface="Arial"/>
                <a:cs typeface="Arial (Hebrew)"/>
              </a:rPr>
              <a:t>הופך ל-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336699"/>
                </a:solidFill>
                <a:latin typeface="Arial"/>
                <a:ea typeface="Arial (Hebrew)"/>
              </a:rPr>
              <a:t>contains(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Arial (Hebrew)"/>
              </a:rPr>
              <a:t>Point(beg_date, end_date), Box(Point(DT3, DT1), Point(DT4, DT2)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90520" y="1523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שאלת אינדקס מרחבי לצורך חישובי זמן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98CF3-4DC5-4657-AE86-8D578BBF4D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Financial Data Blad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nancial Blad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Informix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Time Seri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לוחות שנה שוני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סדרות עיתיות המאורגנות ע”פ לוח שנה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הסבת סדרה מלוח שנה אחד למשנהו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6F5A8-7A60-4A7C-99A9-E73535BECA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Financial Data Blades (2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כמה תאונות קורות בממוצע בימי חג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הו השבוע בשנה המועד ביותר לתאונו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ה המגמה המסתמנת במספר התאונות שקורות בראש השנה ע”פ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שנים האחרונות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אם מכוניות בהירות מעורבות פחות בתאונות בשעות הדימדומ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51587-CD9E-412D-BDD2-BE63C07A1C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מערכות מידע - המצב כיום (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%80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מהמידע אינו מאוחסן בבסיס הנתונים!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סיס הנתונים “מבין” רק סוגי מידע מסוימ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פת ה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וגבל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א ניתן לתשאל את רוב המידע בארגון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E43D7-CA28-4B06-9E59-1A829DD2ED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inancial Data Blades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מחזורי לציון זמני פעילות וזמנים מתי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SERT INTO CalendarPatterns VALUES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WorkWeek'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{5 on, 2 off}, day'::CalendarPattern 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lendar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(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הצמד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attern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לנקודת זמן)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SERT INTO CalendarTable(c_name, c_calendar) VALUES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Month_cal'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'startdate ( 1997-10-01 00:00:00 )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ttstart ( 1997-10-05 00:00:00 )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attname  ( WorkWeek )'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09356-EB5E-47ED-A94D-ECB55ECF6C33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inancial Data Blades (3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ata Type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לאלמנט הסידרה הבסיסי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ate type accident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imestamp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cOccured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t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ata Type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שהוא סדרת אלמנטים בסיסיי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ate distinct type accident_ts 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TimeSeriesOf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(accident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טבלה המכילה את הסדרות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reate table accidents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oad_no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t,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c_t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ccident_ts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9B72E-5F59-4ACA-9058-C461DD1F0D84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inancial Data Blades (4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כמה תאונות קרו בכביש מס’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sum(accOccured) FROM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UNIQUE acc_ts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ROM acciden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ERE road_no = 4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כמה תאונות קרו בכביש מס’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 בימי ראשון זוגיים (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2,4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)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sum(accOccured) FROM (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UNIQUE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ApplyCalendar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(acc_ts,'Sunday_cl'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ROM accident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ERE road_no = 4 )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6699"/>
                </a:solidFill>
                <a:latin typeface="Arial"/>
              </a:rPr>
              <a:t>          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Every Second Sunday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: ‘{13 off, 1 on, 13 off, 1 on}, day’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93F00-2799-4E6B-910C-AE19283DC15E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Digital Media Data Blade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igital Media Blades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xcalibu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Imag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Excalibur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Face Recognition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Virage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Visual Information Retrieva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חיפוש תמונות הדומות לתמונות אחרות (צבע, צורה, טקסטורה).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צירת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ע”פ מאפייני הפנים בתצלום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22018-CD0A-40AA-A277-1B4BCB3622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Digital Media Data Blades (2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חקר בחברת הביטוח : האם מכוניות בגוונים אדומים מעורבות בתאונות יותר ממכוניות אחרות 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LECT count(*) FROM clai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matches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(car_image,:red_car_img) &gt; 0.75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74E94-A3DA-4640-AA46-8B09E9304C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Digital Media Data Blades (3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חקר בחברת הביטוח : האם מבוטח מתחזה לשני אנשים שונים ותובע תביעות כפולות 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LECT cl2.* FROM claims cl1, claims cl2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WHERE cl1.customer_id = 12345 A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matches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(cl1. Car_img, cl2. Car_img) &gt; 0.75 A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matches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(cl1. Cust_img, cl2. Cust_img) &gt; 0.75 A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ab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( cl1.claim_date - cl2.claim_date ) &lt; 60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0AA0C-9529-47CB-BBDD-C3C2940AA2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ינו תשתית מועדפת ליצירת אפליקציות שרת-לקוח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ternet / Intrane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latform Independen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ulti Media reach conten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0066ff"/>
                </a:solidFill>
                <a:latin typeface="Arial"/>
              </a:rPr>
              <a:t>האם אתר הנו אפליקציה או מידע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1538B-2774-420A-9380-318C22464E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 (2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EB Blade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ל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formi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דפי האתר מאוחסנים בבסיס הנתונים, כתובים בשפת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TML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תוכם משולבים משפט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מפוענחים תוך כדי שליפת הדף (תוכן דינמי)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ניית דף מחלקי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TM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אופן דינמי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B8E78-2DCF-46A1-850E-754E18F370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 (3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48387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ייצור דפים דינמיים תוך שימוש ב-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e-IL" sz="2800" spc="-1" strike="noStrike">
                <a:solidFill>
                  <a:srgbClr val="336699"/>
                </a:solidFill>
                <a:latin typeface="Arial"/>
              </a:rPr>
              <a:t>ובכל סוגי המידע בהם מסוגל בסיס הנתונים לטפל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30280" y="2863800"/>
            <a:ext cx="3682800" cy="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9680" y="2384280"/>
            <a:ext cx="1512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hotos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2D Spatial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08280" y="3460680"/>
            <a:ext cx="15192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300" spc="-1" strike="noStrike">
                <a:solidFill>
                  <a:srgbClr val="336699"/>
                </a:solidFill>
                <a:latin typeface="Arial Black"/>
              </a:rPr>
              <a:t>Web Server</a:t>
            </a:r>
            <a:endParaRPr b="0" lang="en-US" sz="23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3440" y="2130480"/>
            <a:ext cx="2856240" cy="2268360"/>
          </a:xfrm>
          <a:prstGeom prst="rect">
            <a:avLst/>
          </a:prstGeom>
          <a:gradFill rotWithShape="0">
            <a:gsLst>
              <a:gs pos="0">
                <a:srgbClr val="dfd1ff"/>
              </a:gs>
              <a:gs pos="100000">
                <a:srgbClr val="827a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27480" y="4119480"/>
            <a:ext cx="2913120" cy="511200"/>
          </a:xfrm>
          <a:prstGeom prst="ellipse">
            <a:avLst/>
          </a:prstGeom>
          <a:gradFill rotWithShape="0">
            <a:gsLst>
              <a:gs pos="0">
                <a:srgbClr val="8955ff"/>
              </a:gs>
              <a:gs pos="100000">
                <a:srgbClr val="5031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2060640"/>
            <a:ext cx="2837160" cy="244440"/>
          </a:xfrm>
          <a:prstGeom prst="ellipse">
            <a:avLst/>
          </a:prstGeom>
          <a:gradFill rotWithShape="0">
            <a:gsLst>
              <a:gs pos="0">
                <a:srgbClr val="8955ff"/>
              </a:gs>
              <a:gs pos="100000">
                <a:srgbClr val="503195"/>
              </a:gs>
            </a:gsLst>
            <a:lin ang="108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55960" y="2797200"/>
            <a:ext cx="2070000" cy="1628640"/>
            <a:chOff x="3855960" y="2797200"/>
            <a:chExt cx="2070000" cy="1628640"/>
          </a:xfrm>
        </p:grpSpPr>
        <p:grpSp>
          <p:nvGrpSpPr>
            <p:cNvPr id="251" name=""/>
            <p:cNvGrpSpPr/>
            <p:nvPr/>
          </p:nvGrpSpPr>
          <p:grpSpPr>
            <a:xfrm>
              <a:off x="5438880" y="2797200"/>
              <a:ext cx="487080" cy="885960"/>
              <a:chOff x="5438880" y="2797200"/>
              <a:chExt cx="487080" cy="885960"/>
            </a:xfrm>
          </p:grpSpPr>
          <p:sp>
            <p:nvSpPr>
              <p:cNvPr id="252" name=""/>
              <p:cNvSpPr/>
              <p:nvPr/>
            </p:nvSpPr>
            <p:spPr>
              <a:xfrm>
                <a:off x="5438880" y="2797200"/>
                <a:ext cx="487080" cy="885960"/>
              </a:xfrm>
              <a:prstGeom prst="rect">
                <a:avLst/>
              </a:prstGeom>
              <a:solidFill>
                <a:srgbClr val="66ccff"/>
              </a:solidFill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59480" y="2838600"/>
                <a:ext cx="244440" cy="2268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73800" y="2838600"/>
                <a:ext cx="3168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59360" y="2838600"/>
                <a:ext cx="3024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473800" y="293544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59360" y="293544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473800" y="3032280"/>
                <a:ext cx="316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59360" y="3032280"/>
                <a:ext cx="3024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73800" y="3127320"/>
                <a:ext cx="31680" cy="3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59360" y="3127320"/>
                <a:ext cx="30240" cy="3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3800" y="322272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59360" y="322272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473800" y="331956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59360" y="331956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73800" y="3416400"/>
                <a:ext cx="316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59360" y="3416400"/>
                <a:ext cx="3024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3800" y="351144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59360" y="351144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473800" y="3606840"/>
                <a:ext cx="3168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59360" y="3606840"/>
                <a:ext cx="302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59480" y="3127320"/>
                <a:ext cx="244440" cy="2271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59480" y="3416400"/>
                <a:ext cx="244440" cy="225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graphicFrame>
            <p:nvGraphicFramePr>
              <p:cNvPr id="274" name=""/>
              <p:cNvGraphicFramePr/>
              <p:nvPr/>
            </p:nvGraphicFramePr>
            <p:xfrm>
              <a:off x="5570640" y="2847960"/>
              <a:ext cx="160200" cy="227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570640" y="2847960"/>
                        <a:ext cx="160200" cy="2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6" name=""/>
              <p:cNvGraphicFramePr/>
              <p:nvPr/>
            </p:nvGraphicFramePr>
            <p:xfrm>
              <a:off x="5607000" y="3138480"/>
              <a:ext cx="160200" cy="22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07000" y="3138480"/>
                        <a:ext cx="160200" cy="2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8" name=""/>
              <p:cNvGraphicFramePr/>
              <p:nvPr/>
            </p:nvGraphicFramePr>
            <p:xfrm>
              <a:off x="5643360" y="3429000"/>
              <a:ext cx="160560" cy="225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43360" y="3429000"/>
                        <a:ext cx="160560" cy="22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80" name=""/>
            <p:cNvGrpSpPr/>
            <p:nvPr/>
          </p:nvGrpSpPr>
          <p:grpSpPr>
            <a:xfrm>
              <a:off x="4846680" y="3257640"/>
              <a:ext cx="745920" cy="557280"/>
              <a:chOff x="4846680" y="3257640"/>
              <a:chExt cx="745920" cy="557280"/>
            </a:xfrm>
          </p:grpSpPr>
          <p:sp>
            <p:nvSpPr>
              <p:cNvPr id="281" name=""/>
              <p:cNvSpPr/>
              <p:nvPr/>
            </p:nvSpPr>
            <p:spPr>
              <a:xfrm>
                <a:off x="4846680" y="3257640"/>
                <a:ext cx="745920" cy="5572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efefe"/>
                  </a:gs>
                </a:gsLst>
                <a:lin ang="5400000"/>
              </a:gradFill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83040" y="3397320"/>
                <a:ext cx="15876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97600" y="3397320"/>
                <a:ext cx="11556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67160" y="3397320"/>
                <a:ext cx="11772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38880" y="3397320"/>
                <a:ext cx="115920" cy="37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83040" y="3300480"/>
                <a:ext cx="67176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83040" y="3397320"/>
                <a:ext cx="15876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97600" y="3397320"/>
                <a:ext cx="11556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67160" y="3397320"/>
                <a:ext cx="11772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38880" y="3397320"/>
                <a:ext cx="115920" cy="3492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83040" y="3494160"/>
                <a:ext cx="15876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97600" y="3494160"/>
                <a:ext cx="11556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67160" y="3494160"/>
                <a:ext cx="11772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38880" y="3494160"/>
                <a:ext cx="11592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83040" y="3591000"/>
                <a:ext cx="1587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97600" y="3591000"/>
                <a:ext cx="1155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67160" y="3591000"/>
                <a:ext cx="1177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38880" y="3591000"/>
                <a:ext cx="1159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83040" y="3687840"/>
                <a:ext cx="1587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97600" y="3687840"/>
                <a:ext cx="11556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67160" y="3687840"/>
                <a:ext cx="1177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38880" y="3687840"/>
                <a:ext cx="115920" cy="3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pic>
          <p:nvPicPr>
            <p:cNvPr id="303" name="" descr=""/>
            <p:cNvPicPr/>
            <p:nvPr/>
          </p:nvPicPr>
          <p:blipFill>
            <a:blip r:embed="rId7"/>
            <a:stretch/>
          </p:blipFill>
          <p:spPr>
            <a:xfrm>
              <a:off x="4308480" y="3303720"/>
              <a:ext cx="415800" cy="620640"/>
            </a:xfrm>
            <a:prstGeom prst="rect">
              <a:avLst/>
            </a:prstGeom>
            <a:ln w="12600">
              <a:solidFill>
                <a:srgbClr val="336699"/>
              </a:solidFill>
              <a:miter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3855960" y="2806560"/>
              <a:ext cx="486000" cy="771480"/>
              <a:chOff x="3855960" y="2806560"/>
              <a:chExt cx="486000" cy="7714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855960" y="2806560"/>
                <a:ext cx="486000" cy="771480"/>
                <a:chOff x="3855960" y="2806560"/>
                <a:chExt cx="486000" cy="771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855960" y="2806560"/>
                  <a:ext cx="486000" cy="771480"/>
                </a:xfrm>
                <a:custGeom>
                  <a:avLst/>
                  <a:gdLst/>
                  <a:ahLst/>
                  <a:rect l="l" t="t" r="r" b="b"/>
                  <a:pathLst>
                    <a:path w="306" h="486">
                      <a:moveTo>
                        <a:pt x="0" y="0"/>
                      </a:moveTo>
                      <a:lnTo>
                        <a:pt x="0" y="485"/>
                      </a:lnTo>
                      <a:lnTo>
                        <a:pt x="305" y="485"/>
                      </a:lnTo>
                      <a:lnTo>
                        <a:pt x="305" y="69"/>
                      </a:lnTo>
                      <a:lnTo>
                        <a:pt x="244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efefe"/>
                    </a:gs>
                  </a:gsLst>
                  <a:lin ang="5400000"/>
                </a:gradFill>
                <a:ln cap="rnd" w="25560">
                  <a:solidFill>
                    <a:srgbClr val="33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243320" y="2806560"/>
                  <a:ext cx="98640" cy="111240"/>
                </a:xfrm>
                <a:custGeom>
                  <a:avLst/>
                  <a:gdLst/>
                  <a:ahLst/>
                  <a:rect l="l" t="t" r="r" b="b"/>
                  <a:pathLst>
                    <a:path w="62" h="70">
                      <a:moveTo>
                        <a:pt x="0" y="0"/>
                      </a:moveTo>
                      <a:lnTo>
                        <a:pt x="0" y="69"/>
                      </a:lnTo>
                      <a:lnTo>
                        <a:pt x="61" y="69"/>
                      </a:lnTo>
                    </a:path>
                  </a:pathLst>
                </a:custGeom>
                <a:gradFill rotWithShape="0">
                  <a:gsLst>
                    <a:gs pos="0">
                      <a:srgbClr val="ccecff"/>
                    </a:gs>
                    <a:gs pos="100000">
                      <a:srgbClr val="fefefe"/>
                    </a:gs>
                  </a:gsLst>
                  <a:lin ang="5400000"/>
                </a:gradFill>
                <a:ln cap="rnd" w="25560">
                  <a:solidFill>
                    <a:srgbClr val="33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3978360" y="2916360"/>
                <a:ext cx="4608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78360" y="2952720"/>
                <a:ext cx="4608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78360" y="2990880"/>
                <a:ext cx="4608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78360" y="3100320"/>
                <a:ext cx="27144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978360" y="3173400"/>
                <a:ext cx="23976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78360" y="3246480"/>
                <a:ext cx="27144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78360" y="3319560"/>
                <a:ext cx="20772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978360" y="3392640"/>
                <a:ext cx="239760" cy="0"/>
              </a:xfrm>
              <a:prstGeom prst="line">
                <a:avLst/>
              </a:prstGeom>
              <a:ln w="507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226040" y="3763800"/>
              <a:ext cx="728640" cy="662040"/>
              <a:chOff x="4226040" y="3763800"/>
              <a:chExt cx="728640" cy="662040"/>
            </a:xfrm>
          </p:grpSpPr>
          <p:sp>
            <p:nvSpPr>
              <p:cNvPr id="317" name=""/>
              <p:cNvSpPr/>
              <p:nvPr/>
            </p:nvSpPr>
            <p:spPr>
              <a:xfrm>
                <a:off x="4440240" y="3763800"/>
                <a:ext cx="514440" cy="66204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40240" y="3763800"/>
                <a:ext cx="514440" cy="1296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2120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7979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4816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83080" y="3795840"/>
                <a:ext cx="2376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1944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5616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9252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29240" y="3795840"/>
                <a:ext cx="2196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65600" y="3795840"/>
                <a:ext cx="223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02320" y="3795840"/>
                <a:ext cx="205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38680" y="3795840"/>
                <a:ext cx="20520" cy="2700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e9e9e9"/>
                  </a:gs>
                </a:gsLst>
                <a:lin ang="54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440240" y="3841560"/>
                <a:ext cx="446040" cy="1296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440240" y="3867120"/>
                <a:ext cx="376200" cy="12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40240" y="3892680"/>
                <a:ext cx="492120" cy="66600"/>
              </a:xfrm>
              <a:prstGeom prst="rect">
                <a:avLst/>
              </a:prstGeom>
              <a:gradFill rotWithShape="0">
                <a:gsLst>
                  <a:gs pos="0">
                    <a:srgbClr val="cfdffe"/>
                  </a:gs>
                  <a:gs pos="100000">
                    <a:srgbClr val="6699ff"/>
                  </a:gs>
                </a:gsLst>
                <a:lin ang="108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40240" y="3997440"/>
                <a:ext cx="492120" cy="193680"/>
              </a:xfrm>
              <a:prstGeom prst="rect">
                <a:avLst/>
              </a:prstGeom>
              <a:gradFill rotWithShape="0">
                <a:gsLst>
                  <a:gs pos="0">
                    <a:srgbClr val="9898e4"/>
                  </a:gs>
                  <a:gs pos="100000">
                    <a:srgbClr val="3333cc"/>
                  </a:gs>
                </a:gsLst>
                <a:lin ang="10800000"/>
              </a:gra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92440" y="4224240"/>
                <a:ext cx="38736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92440" y="4275000"/>
                <a:ext cx="36540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92440" y="4329000"/>
                <a:ext cx="38736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92440" y="4379760"/>
                <a:ext cx="341640" cy="0"/>
              </a:xfrm>
              <a:prstGeom prst="line">
                <a:avLst/>
              </a:prstGeom>
              <a:ln w="255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40240" y="4413240"/>
                <a:ext cx="514440" cy="1260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86320" y="4049640"/>
                <a:ext cx="79200" cy="90720"/>
              </a:xfrm>
              <a:prstGeom prst="ellipse">
                <a:avLst/>
              </a:prstGeom>
              <a:gradFill rotWithShape="0">
                <a:gsLst>
                  <a:gs pos="0">
                    <a:srgbClr val="e9e9f8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99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9680000">
                <a:off x="4214520" y="4170240"/>
                <a:ext cx="492120" cy="9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080" y="4"/>
                    </a:moveTo>
                    <a:arcTo wR="10800" hR="10800" stAng="-5311017" swAng="53110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080" y="4"/>
                    </a:moveTo>
                    <a:arcTo wR="10800" hR="10800" stAng="-5311017" swAng="531101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9680000">
                <a:off x="4449600" y="4124880"/>
                <a:ext cx="237960" cy="4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69" y="11614"/>
                    </a:moveTo>
                    <a:arcTo wR="10800" hR="10800" stAng="259317" swAng="51879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69" y="11614"/>
                    </a:moveTo>
                    <a:arcTo wR="10800" hR="10800" stAng="259317" swAng="5187965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02160" y="4068720"/>
                <a:ext cx="25200" cy="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956120" y="3898800"/>
              <a:ext cx="804960" cy="473040"/>
              <a:chOff x="4956120" y="3898800"/>
              <a:chExt cx="804960" cy="473040"/>
            </a:xfrm>
          </p:grpSpPr>
          <p:sp>
            <p:nvSpPr>
              <p:cNvPr id="343" name=""/>
              <p:cNvSpPr/>
              <p:nvPr/>
            </p:nvSpPr>
            <p:spPr>
              <a:xfrm>
                <a:off x="5003640" y="3898800"/>
                <a:ext cx="412920" cy="47304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993920" y="4257720"/>
                <a:ext cx="114120" cy="11268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46720" y="3987720"/>
                <a:ext cx="5724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14800" y="3983040"/>
                <a:ext cx="73080" cy="29520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76960" y="3987720"/>
                <a:ext cx="6012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02160" y="3987720"/>
                <a:ext cx="604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2772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52920" y="3987720"/>
                <a:ext cx="604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7848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02240" y="3987720"/>
                <a:ext cx="604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27800" y="3987720"/>
                <a:ext cx="6012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5300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78560" y="3987720"/>
                <a:ext cx="568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03760" y="3987720"/>
                <a:ext cx="5868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27520" y="3987720"/>
                <a:ext cx="5904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54520" y="3987720"/>
                <a:ext cx="55800" cy="287280"/>
              </a:xfrm>
              <a:prstGeom prst="ellipse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103720" y="3900600"/>
                <a:ext cx="312840" cy="349200"/>
              </a:xfrm>
              <a:prstGeom prst="rect">
                <a:avLst/>
              </a:prstGeom>
              <a:noFill/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60880" y="3979800"/>
                <a:ext cx="30816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64120" y="4281480"/>
                <a:ext cx="30312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56120" y="4127400"/>
                <a:ext cx="804960" cy="0"/>
              </a:xfrm>
              <a:prstGeom prst="line">
                <a:avLst/>
              </a:prstGeom>
              <a:ln w="12600">
                <a:solidFill>
                  <a:srgbClr val="33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417920" y="2849400"/>
              <a:ext cx="954000" cy="409680"/>
              <a:chOff x="4417920" y="2849400"/>
              <a:chExt cx="954000" cy="409680"/>
            </a:xfrm>
          </p:grpSpPr>
          <p:sp>
            <p:nvSpPr>
              <p:cNvPr id="364" name=""/>
              <p:cNvSpPr/>
              <p:nvPr/>
            </p:nvSpPr>
            <p:spPr>
              <a:xfrm>
                <a:off x="4417920" y="3056040"/>
                <a:ext cx="954000" cy="0"/>
              </a:xfrm>
              <a:prstGeom prst="line">
                <a:avLst/>
              </a:prstGeom>
              <a:ln w="255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4548240" y="2849400"/>
                <a:ext cx="671400" cy="409680"/>
                <a:chOff x="4548240" y="2849400"/>
                <a:chExt cx="671400" cy="4096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548240" y="2986200"/>
                  <a:ext cx="125280" cy="145800"/>
                </a:xfrm>
                <a:custGeom>
                  <a:avLst/>
                  <a:gdLst/>
                  <a:ahLst/>
                  <a:rect l="l" t="t" r="r" b="b"/>
                  <a:pathLst>
                    <a:path w="79" h="92">
                      <a:moveTo>
                        <a:pt x="0" y="42"/>
                      </a:moveTo>
                      <a:lnTo>
                        <a:pt x="0" y="35"/>
                      </a:lnTo>
                      <a:lnTo>
                        <a:pt x="2" y="27"/>
                      </a:lnTo>
                      <a:lnTo>
                        <a:pt x="3" y="21"/>
                      </a:lnTo>
                      <a:lnTo>
                        <a:pt x="5" y="18"/>
                      </a:lnTo>
                      <a:lnTo>
                        <a:pt x="7" y="17"/>
                      </a:lnTo>
                      <a:lnTo>
                        <a:pt x="9" y="17"/>
                      </a:lnTo>
                      <a:lnTo>
                        <a:pt x="11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5" y="27"/>
                      </a:lnTo>
                      <a:lnTo>
                        <a:pt x="19" y="55"/>
                      </a:lnTo>
                      <a:lnTo>
                        <a:pt x="20" y="60"/>
                      </a:lnTo>
                      <a:lnTo>
                        <a:pt x="21" y="63"/>
                      </a:lnTo>
                      <a:lnTo>
                        <a:pt x="23" y="64"/>
                      </a:lnTo>
                      <a:lnTo>
                        <a:pt x="25" y="64"/>
                      </a:lnTo>
                      <a:lnTo>
                        <a:pt x="27" y="63"/>
                      </a:lnTo>
                      <a:lnTo>
                        <a:pt x="29" y="60"/>
                      </a:lnTo>
                      <a:lnTo>
                        <a:pt x="30" y="55"/>
                      </a:lnTo>
                      <a:lnTo>
                        <a:pt x="35" y="14"/>
                      </a:lnTo>
                      <a:lnTo>
                        <a:pt x="36" y="8"/>
                      </a:lnTo>
                      <a:lnTo>
                        <a:pt x="37" y="4"/>
                      </a:lnTo>
                      <a:lnTo>
                        <a:pt x="39" y="1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4"/>
                      </a:lnTo>
                      <a:lnTo>
                        <a:pt x="48" y="6"/>
                      </a:lnTo>
                      <a:lnTo>
                        <a:pt x="49" y="10"/>
                      </a:lnTo>
                      <a:lnTo>
                        <a:pt x="57" y="77"/>
                      </a:lnTo>
                      <a:lnTo>
                        <a:pt x="58" y="83"/>
                      </a:lnTo>
                      <a:lnTo>
                        <a:pt x="60" y="87"/>
                      </a:lnTo>
                      <a:lnTo>
                        <a:pt x="61" y="89"/>
                      </a:lnTo>
                      <a:lnTo>
                        <a:pt x="65" y="91"/>
                      </a:lnTo>
                      <a:lnTo>
                        <a:pt x="67" y="87"/>
                      </a:lnTo>
                      <a:lnTo>
                        <a:pt x="68" y="83"/>
                      </a:lnTo>
                      <a:lnTo>
                        <a:pt x="70" y="77"/>
                      </a:lnTo>
                      <a:lnTo>
                        <a:pt x="78" y="17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672080" y="2849400"/>
                  <a:ext cx="214200" cy="409680"/>
                </a:xfrm>
                <a:custGeom>
                  <a:avLst/>
                  <a:gdLst/>
                  <a:ahLst/>
                  <a:rect l="l" t="t" r="r" b="b"/>
                  <a:pathLst>
                    <a:path w="135" h="258">
                      <a:moveTo>
                        <a:pt x="0" y="104"/>
                      </a:moveTo>
                      <a:lnTo>
                        <a:pt x="6" y="56"/>
                      </a:lnTo>
                      <a:lnTo>
                        <a:pt x="7" y="52"/>
                      </a:lnTo>
                      <a:lnTo>
                        <a:pt x="9" y="50"/>
                      </a:lnTo>
                      <a:lnTo>
                        <a:pt x="11" y="49"/>
                      </a:lnTo>
                      <a:lnTo>
                        <a:pt x="14" y="50"/>
                      </a:lnTo>
                      <a:lnTo>
                        <a:pt x="15" y="52"/>
                      </a:lnTo>
                      <a:lnTo>
                        <a:pt x="16" y="56"/>
                      </a:lnTo>
                      <a:lnTo>
                        <a:pt x="33" y="195"/>
                      </a:lnTo>
                      <a:lnTo>
                        <a:pt x="34" y="202"/>
                      </a:lnTo>
                      <a:lnTo>
                        <a:pt x="36" y="205"/>
                      </a:lnTo>
                      <a:lnTo>
                        <a:pt x="38" y="206"/>
                      </a:lnTo>
                      <a:lnTo>
                        <a:pt x="41" y="207"/>
                      </a:lnTo>
                      <a:lnTo>
                        <a:pt x="43" y="206"/>
                      </a:lnTo>
                      <a:lnTo>
                        <a:pt x="45" y="203"/>
                      </a:lnTo>
                      <a:lnTo>
                        <a:pt x="46" y="195"/>
                      </a:lnTo>
                      <a:lnTo>
                        <a:pt x="62" y="34"/>
                      </a:lnTo>
                      <a:lnTo>
                        <a:pt x="64" y="26"/>
                      </a:lnTo>
                      <a:lnTo>
                        <a:pt x="64" y="23"/>
                      </a:lnTo>
                      <a:lnTo>
                        <a:pt x="66" y="21"/>
                      </a:lnTo>
                      <a:lnTo>
                        <a:pt x="68" y="19"/>
                      </a:lnTo>
                      <a:lnTo>
                        <a:pt x="70" y="18"/>
                      </a:lnTo>
                      <a:lnTo>
                        <a:pt x="72" y="20"/>
                      </a:lnTo>
                      <a:lnTo>
                        <a:pt x="74" y="21"/>
                      </a:lnTo>
                      <a:lnTo>
                        <a:pt x="76" y="23"/>
                      </a:lnTo>
                      <a:lnTo>
                        <a:pt x="77" y="26"/>
                      </a:lnTo>
                      <a:lnTo>
                        <a:pt x="78" y="32"/>
                      </a:lnTo>
                      <a:lnTo>
                        <a:pt x="92" y="239"/>
                      </a:lnTo>
                      <a:lnTo>
                        <a:pt x="93" y="248"/>
                      </a:lnTo>
                      <a:lnTo>
                        <a:pt x="95" y="252"/>
                      </a:lnTo>
                      <a:lnTo>
                        <a:pt x="97" y="255"/>
                      </a:lnTo>
                      <a:lnTo>
                        <a:pt x="100" y="257"/>
                      </a:lnTo>
                      <a:lnTo>
                        <a:pt x="103" y="255"/>
                      </a:lnTo>
                      <a:lnTo>
                        <a:pt x="103" y="252"/>
                      </a:lnTo>
                      <a:lnTo>
                        <a:pt x="105" y="249"/>
                      </a:lnTo>
                      <a:lnTo>
                        <a:pt x="105" y="240"/>
                      </a:lnTo>
                      <a:lnTo>
                        <a:pt x="124" y="14"/>
                      </a:lnTo>
                      <a:lnTo>
                        <a:pt x="125" y="8"/>
                      </a:lnTo>
                      <a:lnTo>
                        <a:pt x="126" y="4"/>
                      </a:lnTo>
                      <a:lnTo>
                        <a:pt x="128" y="2"/>
                      </a:lnTo>
                      <a:lnTo>
                        <a:pt x="130" y="0"/>
                      </a:lnTo>
                      <a:lnTo>
                        <a:pt x="131" y="0"/>
                      </a:lnTo>
                      <a:lnTo>
                        <a:pt x="134" y="0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094360" y="2986200"/>
                  <a:ext cx="125280" cy="145800"/>
                </a:xfrm>
                <a:custGeom>
                  <a:avLst/>
                  <a:gdLst/>
                  <a:ahLst/>
                  <a:rect l="l" t="t" r="r" b="b"/>
                  <a:pathLst>
                    <a:path w="79" h="92">
                      <a:moveTo>
                        <a:pt x="78" y="42"/>
                      </a:moveTo>
                      <a:lnTo>
                        <a:pt x="76" y="35"/>
                      </a:lnTo>
                      <a:lnTo>
                        <a:pt x="75" y="27"/>
                      </a:lnTo>
                      <a:lnTo>
                        <a:pt x="73" y="21"/>
                      </a:lnTo>
                      <a:lnTo>
                        <a:pt x="72" y="18"/>
                      </a:lnTo>
                      <a:lnTo>
                        <a:pt x="70" y="17"/>
                      </a:lnTo>
                      <a:lnTo>
                        <a:pt x="67" y="17"/>
                      </a:lnTo>
                      <a:lnTo>
                        <a:pt x="65" y="17"/>
                      </a:lnTo>
                      <a:lnTo>
                        <a:pt x="63" y="20"/>
                      </a:lnTo>
                      <a:lnTo>
                        <a:pt x="62" y="22"/>
                      </a:lnTo>
                      <a:lnTo>
                        <a:pt x="61" y="27"/>
                      </a:lnTo>
                      <a:lnTo>
                        <a:pt x="57" y="55"/>
                      </a:lnTo>
                      <a:lnTo>
                        <a:pt x="56" y="60"/>
                      </a:lnTo>
                      <a:lnTo>
                        <a:pt x="55" y="63"/>
                      </a:lnTo>
                      <a:lnTo>
                        <a:pt x="53" y="64"/>
                      </a:lnTo>
                      <a:lnTo>
                        <a:pt x="51" y="64"/>
                      </a:lnTo>
                      <a:lnTo>
                        <a:pt x="48" y="63"/>
                      </a:lnTo>
                      <a:lnTo>
                        <a:pt x="47" y="60"/>
                      </a:lnTo>
                      <a:lnTo>
                        <a:pt x="46" y="55"/>
                      </a:lnTo>
                      <a:lnTo>
                        <a:pt x="41" y="14"/>
                      </a:lnTo>
                      <a:lnTo>
                        <a:pt x="40" y="8"/>
                      </a:lnTo>
                      <a:lnTo>
                        <a:pt x="39" y="4"/>
                      </a:lnTo>
                      <a:lnTo>
                        <a:pt x="37" y="1"/>
                      </a:lnTo>
                      <a:lnTo>
                        <a:pt x="36" y="0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29" y="4"/>
                      </a:lnTo>
                      <a:lnTo>
                        <a:pt x="28" y="6"/>
                      </a:lnTo>
                      <a:lnTo>
                        <a:pt x="27" y="10"/>
                      </a:lnTo>
                      <a:lnTo>
                        <a:pt x="19" y="77"/>
                      </a:lnTo>
                      <a:lnTo>
                        <a:pt x="18" y="83"/>
                      </a:lnTo>
                      <a:lnTo>
                        <a:pt x="17" y="87"/>
                      </a:lnTo>
                      <a:lnTo>
                        <a:pt x="15" y="89"/>
                      </a:lnTo>
                      <a:lnTo>
                        <a:pt x="12" y="91"/>
                      </a:lnTo>
                      <a:lnTo>
                        <a:pt x="10" y="87"/>
                      </a:lnTo>
                      <a:lnTo>
                        <a:pt x="8" y="83"/>
                      </a:lnTo>
                      <a:lnTo>
                        <a:pt x="7" y="77"/>
                      </a:lnTo>
                      <a:lnTo>
                        <a:pt x="0" y="17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81600" y="2849400"/>
                  <a:ext cx="214200" cy="409680"/>
                </a:xfrm>
                <a:custGeom>
                  <a:avLst/>
                  <a:gdLst/>
                  <a:ahLst/>
                  <a:rect l="l" t="t" r="r" b="b"/>
                  <a:pathLst>
                    <a:path w="135" h="258">
                      <a:moveTo>
                        <a:pt x="134" y="104"/>
                      </a:moveTo>
                      <a:lnTo>
                        <a:pt x="126" y="56"/>
                      </a:lnTo>
                      <a:lnTo>
                        <a:pt x="126" y="52"/>
                      </a:lnTo>
                      <a:lnTo>
                        <a:pt x="123" y="50"/>
                      </a:lnTo>
                      <a:lnTo>
                        <a:pt x="121" y="49"/>
                      </a:lnTo>
                      <a:lnTo>
                        <a:pt x="118" y="50"/>
                      </a:lnTo>
                      <a:lnTo>
                        <a:pt x="117" y="52"/>
                      </a:lnTo>
                      <a:lnTo>
                        <a:pt x="115" y="56"/>
                      </a:lnTo>
                      <a:lnTo>
                        <a:pt x="100" y="195"/>
                      </a:lnTo>
                      <a:lnTo>
                        <a:pt x="98" y="202"/>
                      </a:lnTo>
                      <a:lnTo>
                        <a:pt x="97" y="205"/>
                      </a:lnTo>
                      <a:lnTo>
                        <a:pt x="94" y="206"/>
                      </a:lnTo>
                      <a:lnTo>
                        <a:pt x="92" y="207"/>
                      </a:lnTo>
                      <a:lnTo>
                        <a:pt x="89" y="206"/>
                      </a:lnTo>
                      <a:lnTo>
                        <a:pt x="87" y="203"/>
                      </a:lnTo>
                      <a:lnTo>
                        <a:pt x="86" y="195"/>
                      </a:lnTo>
                      <a:lnTo>
                        <a:pt x="69" y="34"/>
                      </a:lnTo>
                      <a:lnTo>
                        <a:pt x="69" y="26"/>
                      </a:lnTo>
                      <a:lnTo>
                        <a:pt x="68" y="23"/>
                      </a:lnTo>
                      <a:lnTo>
                        <a:pt x="67" y="21"/>
                      </a:lnTo>
                      <a:lnTo>
                        <a:pt x="64" y="19"/>
                      </a:lnTo>
                      <a:lnTo>
                        <a:pt x="62" y="18"/>
                      </a:lnTo>
                      <a:lnTo>
                        <a:pt x="60" y="20"/>
                      </a:lnTo>
                      <a:lnTo>
                        <a:pt x="58" y="21"/>
                      </a:lnTo>
                      <a:lnTo>
                        <a:pt x="56" y="23"/>
                      </a:lnTo>
                      <a:lnTo>
                        <a:pt x="56" y="26"/>
                      </a:lnTo>
                      <a:lnTo>
                        <a:pt x="54" y="32"/>
                      </a:lnTo>
                      <a:lnTo>
                        <a:pt x="40" y="239"/>
                      </a:lnTo>
                      <a:lnTo>
                        <a:pt x="38" y="248"/>
                      </a:lnTo>
                      <a:lnTo>
                        <a:pt x="37" y="252"/>
                      </a:lnTo>
                      <a:lnTo>
                        <a:pt x="35" y="255"/>
                      </a:lnTo>
                      <a:lnTo>
                        <a:pt x="33" y="257"/>
                      </a:lnTo>
                      <a:lnTo>
                        <a:pt x="30" y="255"/>
                      </a:lnTo>
                      <a:lnTo>
                        <a:pt x="29" y="252"/>
                      </a:lnTo>
                      <a:lnTo>
                        <a:pt x="28" y="249"/>
                      </a:lnTo>
                      <a:lnTo>
                        <a:pt x="27" y="240"/>
                      </a:lnTo>
                      <a:lnTo>
                        <a:pt x="7" y="14"/>
                      </a:lnTo>
                      <a:lnTo>
                        <a:pt x="7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ff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1808280" y="2317680"/>
            <a:ext cx="1144440" cy="1111320"/>
            <a:chOff x="1808280" y="2317680"/>
            <a:chExt cx="1144440" cy="1111320"/>
          </a:xfrm>
        </p:grpSpPr>
        <p:sp>
          <p:nvSpPr>
            <p:cNvPr id="371" name=""/>
            <p:cNvSpPr/>
            <p:nvPr/>
          </p:nvSpPr>
          <p:spPr>
            <a:xfrm>
              <a:off x="1827000" y="2440080"/>
              <a:ext cx="1125360" cy="819000"/>
            </a:xfrm>
            <a:prstGeom prst="rect">
              <a:avLst/>
            </a:prstGeom>
            <a:gradFill rotWithShape="0">
              <a:gsLst>
                <a:gs pos="0">
                  <a:srgbClr val="8955ff"/>
                </a:gs>
                <a:gs pos="100000">
                  <a:srgbClr val="d6c5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46080" y="2317680"/>
              <a:ext cx="1068120" cy="228600"/>
            </a:xfrm>
            <a:prstGeom prst="ellipse">
              <a:avLst/>
            </a:prstGeom>
            <a:gradFill rotWithShape="0">
              <a:gsLst>
                <a:gs pos="0">
                  <a:srgbClr val="8955ff"/>
                </a:gs>
                <a:gs pos="100000">
                  <a:srgbClr val="d6c5fe"/>
                </a:gs>
              </a:gsLst>
              <a:lin ang="10800000"/>
            </a:gra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08280" y="3124080"/>
              <a:ext cx="1144440" cy="304920"/>
            </a:xfrm>
            <a:prstGeom prst="ellipse">
              <a:avLst/>
            </a:prstGeom>
            <a:gradFill rotWithShape="0">
              <a:gsLst>
                <a:gs pos="0">
                  <a:srgbClr val="8955ff"/>
                </a:gs>
                <a:gs pos="100000">
                  <a:srgbClr val="d6c5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534200" y="3687120"/>
            <a:ext cx="650520" cy="721080"/>
            <a:chOff x="4534200" y="3687120"/>
            <a:chExt cx="650520" cy="721080"/>
          </a:xfrm>
        </p:grpSpPr>
        <p:sp>
          <p:nvSpPr>
            <p:cNvPr id="375" name=""/>
            <p:cNvSpPr/>
            <p:nvPr/>
          </p:nvSpPr>
          <p:spPr>
            <a:xfrm rot="1560000">
              <a:off x="4829400" y="3720600"/>
              <a:ext cx="198000" cy="19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66" y="20896"/>
                  </a:moveTo>
                  <a:arcTo wR="10800" hR="10800" stAng="6647775" swAng="16619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6966" y="20896"/>
                  </a:moveTo>
                  <a:arcTo wR="10800" hR="10800" stAng="6647775" swAng="16619443"/>
                </a:path>
              </a:pathLst>
            </a:custGeom>
            <a:noFill/>
            <a:ln cap="rnd" w="12600">
              <a:solidFill>
                <a:srgbClr val="f8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534200" y="3725640"/>
              <a:ext cx="650520" cy="682560"/>
              <a:chOff x="4534200" y="3725640"/>
              <a:chExt cx="650520" cy="68256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4670280" y="4091400"/>
                <a:ext cx="514440" cy="316800"/>
                <a:chOff x="4670280" y="4091400"/>
                <a:chExt cx="514440" cy="3168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680000" y="4106880"/>
                  <a:ext cx="346680" cy="5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732" y="15042"/>
                      </a:moveTo>
                      <a:arcTo wR="10800" hR="10800" stAng="1387752" swAng="147816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732" y="15042"/>
                      </a:moveTo>
                      <a:arcTo wR="10800" hR="10800" stAng="1387752" swAng="14781681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705200" y="4132080"/>
                  <a:ext cx="310680" cy="56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711" y="15092"/>
                      </a:moveTo>
                      <a:arcTo wR="10800" hR="10800" stAng="1404990" swAng="958579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711" y="15092"/>
                      </a:moveTo>
                      <a:arcTo wR="10800" hR="10800" stAng="1404990" swAng="9585799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710240" y="4185360"/>
                  <a:ext cx="284400" cy="5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694" y="15129"/>
                      </a:moveTo>
                      <a:arcTo wR="10800" hR="10800" stAng="1417763" swAng="120559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694" y="15129"/>
                      </a:moveTo>
                      <a:arcTo wR="10800" hR="10800" stAng="1417763" swAng="12055995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18160" y="4204800"/>
                  <a:ext cx="313560" cy="6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34453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3445328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749840" y="4232160"/>
                  <a:ext cx="246960" cy="6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776" y="14936"/>
                      </a:moveTo>
                      <a:arcTo wR="10800" hR="10800" stAng="1351187" swAng="94488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776" y="14936"/>
                      </a:moveTo>
                      <a:arcTo wR="10800" hR="10800" stAng="1351187" swAng="9448813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4670280" y="4321440"/>
                  <a:ext cx="421920" cy="86760"/>
                  <a:chOff x="4670280" y="4321440"/>
                  <a:chExt cx="421920" cy="86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4670280" y="4321440"/>
                    <a:ext cx="404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063" y="3846"/>
                        </a:moveTo>
                        <a:arcTo wR="10800" hR="10800" stAng="-2405006" swAng="1738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063" y="3846"/>
                        </a:moveTo>
                        <a:arcTo wR="10800" hR="10800" stAng="-2405006" swAng="17384960"/>
                      </a:path>
                    </a:pathLst>
                  </a:custGeom>
                  <a:noFill/>
                  <a:ln cap="rnd" w="1260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689360" y="4341960"/>
                    <a:ext cx="37368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718" y="15074"/>
                        </a:moveTo>
                        <a:arcTo wR="10800" hR="10800" stAng="1398728" swAng="114191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718" y="15074"/>
                        </a:moveTo>
                        <a:arcTo wR="10800" hR="10800" stAng="1398728" swAng="11419195"/>
                      </a:path>
                    </a:pathLst>
                  </a:custGeom>
                  <a:noFill/>
                  <a:ln cap="rnd" w="1260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718160" y="4363200"/>
                    <a:ext cx="37404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313" y="5687"/>
                        </a:moveTo>
                        <a:arcTo wR="10800" hR="10800" stAng="-1695244" swAng="144329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313" y="5687"/>
                        </a:moveTo>
                        <a:arcTo wR="10800" hR="10800" stAng="-1695244" swAng="14432995"/>
                      </a:path>
                    </a:pathLst>
                  </a:custGeom>
                  <a:noFill/>
                  <a:ln cap="rnd" w="12600">
                    <a:solidFill>
                      <a:srgbClr val="99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4774320" y="4245120"/>
                  <a:ext cx="231120" cy="72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652" y="15226"/>
                      </a:moveTo>
                      <a:arcTo wR="10800" hR="10800" stAng="1451465" swAng="82404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652" y="15226"/>
                      </a:moveTo>
                      <a:arcTo wR="10800" hR="10800" stAng="1451465" swAng="8240416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140000">
                  <a:off x="5025960" y="4145400"/>
                  <a:ext cx="78840" cy="11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71" y="6550"/>
                      </a:moveTo>
                      <a:arcTo wR="10800" hR="10800" stAng="-9409505" swAng="148095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71" y="6550"/>
                      </a:moveTo>
                      <a:arcTo wR="10800" hR="10800" stAng="-9409505" swAng="14809505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720000">
                  <a:off x="5033160" y="4103280"/>
                  <a:ext cx="13536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8" y="9206"/>
                      </a:moveTo>
                      <a:arcTo wR="10800" hR="10800" stAng="-10290883" swAng="157717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8" y="9206"/>
                      </a:moveTo>
                      <a:arcTo wR="10800" hR="10800" stAng="-10290883" swAng="15771757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29920" y="4103640"/>
                  <a:ext cx="78480" cy="7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40" y="6870"/>
                      </a:moveTo>
                      <a:arcTo wR="10800" hR="10800" stAng="-9519789" swAng="149197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40" y="6870"/>
                      </a:moveTo>
                      <a:arcTo wR="10800" hR="10800" stAng="-9519789" swAng="14919789"/>
                    </a:path>
                  </a:pathLst>
                </a:custGeom>
                <a:noFill/>
                <a:ln cap="rnd" w="12600">
                  <a:solidFill>
                    <a:srgbClr val="99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rot="420000">
                <a:off x="4620960" y="3881160"/>
                <a:ext cx="345960" cy="29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74" y="608"/>
                    </a:moveTo>
                    <a:arcTo wR="10800" hR="10800" stAng="-4240609" swAng="61688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74" y="608"/>
                    </a:moveTo>
                    <a:arcTo wR="10800" hR="10800" stAng="-4240609" swAng="6168844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97280" y="3728880"/>
                <a:ext cx="27396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136" y="18726"/>
                    </a:moveTo>
                    <a:arcTo wR="10800" hR="10800" stAng="2832932" swAng="136446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136" y="18726"/>
                    </a:moveTo>
                    <a:arcTo wR="10800" hR="10800" stAng="2832932" swAng="13644662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920840" y="3967200"/>
                <a:ext cx="124560" cy="11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4" y="4840"/>
                    </a:moveTo>
                    <a:arcTo wR="10800" hR="10800" stAng="-8790161" swAng="32163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4" y="4840"/>
                    </a:moveTo>
                    <a:arcTo wR="10800" hR="10800" stAng="-8790161" swAng="3216335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40120" y="3725640"/>
                <a:ext cx="163080" cy="25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004" y="19641"/>
                    </a:moveTo>
                    <a:arcTo wR="10800" hR="10800" stAng="3296519" swAng="139132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004" y="19641"/>
                    </a:moveTo>
                    <a:arcTo wR="10800" hR="10800" stAng="3296519" swAng="13913203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867920" y="3936960"/>
                <a:ext cx="165240" cy="9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81" y="5890"/>
                    </a:moveTo>
                    <a:arcTo wR="10800" hR="10800" stAng="-9177568" swAng="48887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81" y="5890"/>
                    </a:moveTo>
                    <a:arcTo wR="10800" hR="10800" stAng="-9177568" swAng="4888743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220000">
                <a:off x="5006520" y="3876480"/>
                <a:ext cx="71280" cy="19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39" y="20645"/>
                    </a:moveTo>
                    <a:arcTo wR="10800" hR="10800" stAng="3943737" swAng="121035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39" y="20645"/>
                    </a:moveTo>
                    <a:arcTo wR="10800" hR="10800" stAng="3943737" swAng="12103575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020000">
                <a:off x="4989960" y="4028400"/>
                <a:ext cx="38160" cy="10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7" y="16015"/>
                    </a:moveTo>
                    <a:arcTo wR="10800" hR="10800" stAng="1732527" swAng="97393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7" y="16015"/>
                    </a:moveTo>
                    <a:arcTo wR="10800" hR="10800" stAng="1732527" swAng="9739336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534200" y="3838680"/>
                <a:ext cx="389880" cy="34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30" y="2688"/>
                    </a:moveTo>
                    <a:arcTo wR="10800" hR="10800" stAng="-2921179" swAng="52678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30" y="2688"/>
                    </a:moveTo>
                    <a:arcTo wR="10800" hR="10800" stAng="-2921179" swAng="5267845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40360" y="3903480"/>
                <a:ext cx="107640" cy="14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12212"/>
                    </a:moveTo>
                    <a:arcTo wR="10800" hR="10800" stAng="10349271" swAng="57507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12212"/>
                    </a:moveTo>
                    <a:arcTo wR="10800" hR="10800" stAng="10349271" swAng="5750746"/>
                  </a:path>
                </a:pathLst>
              </a:custGeom>
              <a:noFill/>
              <a:ln cap="rnd" w="12600">
                <a:solidFill>
                  <a:srgbClr val="f8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123840" y="2273400"/>
            <a:ext cx="1227240" cy="1607760"/>
            <a:chOff x="123840" y="2273400"/>
            <a:chExt cx="1227240" cy="1607760"/>
          </a:xfrm>
        </p:grpSpPr>
        <p:sp>
          <p:nvSpPr>
            <p:cNvPr id="401" name=""/>
            <p:cNvSpPr/>
            <p:nvPr/>
          </p:nvSpPr>
          <p:spPr>
            <a:xfrm>
              <a:off x="184320" y="2334960"/>
              <a:ext cx="1106280" cy="1000080"/>
            </a:xfrm>
            <a:custGeom>
              <a:avLst/>
              <a:gdLst/>
              <a:ahLst/>
              <a:rect l="l" t="t" r="r" b="b"/>
              <a:pathLst>
                <a:path w="697" h="630">
                  <a:moveTo>
                    <a:pt x="0" y="0"/>
                  </a:moveTo>
                  <a:lnTo>
                    <a:pt x="318" y="0"/>
                  </a:lnTo>
                  <a:lnTo>
                    <a:pt x="696" y="0"/>
                  </a:lnTo>
                  <a:lnTo>
                    <a:pt x="688" y="629"/>
                  </a:lnTo>
                  <a:lnTo>
                    <a:pt x="348" y="629"/>
                  </a:lnTo>
                  <a:lnTo>
                    <a:pt x="0" y="629"/>
                  </a:lnTo>
                  <a:lnTo>
                    <a:pt x="0" y="20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5000" y="2273400"/>
              <a:ext cx="1109520" cy="1000080"/>
            </a:xfrm>
            <a:custGeom>
              <a:avLst/>
              <a:gdLst/>
              <a:ahLst/>
              <a:rect l="l" t="t" r="r" b="b"/>
              <a:pathLst>
                <a:path w="699" h="630">
                  <a:moveTo>
                    <a:pt x="0" y="0"/>
                  </a:moveTo>
                  <a:lnTo>
                    <a:pt x="319" y="0"/>
                  </a:lnTo>
                  <a:lnTo>
                    <a:pt x="698" y="0"/>
                  </a:lnTo>
                  <a:lnTo>
                    <a:pt x="690" y="629"/>
                  </a:lnTo>
                  <a:lnTo>
                    <a:pt x="349" y="629"/>
                  </a:lnTo>
                  <a:lnTo>
                    <a:pt x="0" y="629"/>
                  </a:lnTo>
                  <a:lnTo>
                    <a:pt x="0" y="203"/>
                  </a:lnTo>
                  <a:lnTo>
                    <a:pt x="0" y="0"/>
                  </a:lnTo>
                </a:path>
              </a:pathLst>
            </a:custGeom>
            <a:solidFill>
              <a:srgbClr val="89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6120" y="2428920"/>
              <a:ext cx="825480" cy="702720"/>
            </a:xfrm>
            <a:custGeom>
              <a:avLst/>
              <a:gdLst/>
              <a:ahLst/>
              <a:rect l="l" t="t" r="r" b="b"/>
              <a:pathLst>
                <a:path w="520" h="443">
                  <a:moveTo>
                    <a:pt x="325" y="0"/>
                  </a:moveTo>
                  <a:lnTo>
                    <a:pt x="519" y="0"/>
                  </a:lnTo>
                  <a:lnTo>
                    <a:pt x="519" y="442"/>
                  </a:lnTo>
                  <a:lnTo>
                    <a:pt x="296" y="442"/>
                  </a:lnTo>
                  <a:lnTo>
                    <a:pt x="0" y="442"/>
                  </a:lnTo>
                  <a:lnTo>
                    <a:pt x="0" y="0"/>
                  </a:lnTo>
                  <a:lnTo>
                    <a:pt x="325" y="0"/>
                  </a:lnTo>
                </a:path>
              </a:pathLst>
            </a:custGeom>
            <a:solidFill>
              <a:srgbClr val="330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1360" y="3443040"/>
              <a:ext cx="1179720" cy="438120"/>
            </a:xfrm>
            <a:custGeom>
              <a:avLst/>
              <a:gdLst/>
              <a:ahLst/>
              <a:rect l="l" t="t" r="r" b="b"/>
              <a:pathLst>
                <a:path w="743" h="276">
                  <a:moveTo>
                    <a:pt x="29" y="0"/>
                  </a:moveTo>
                  <a:lnTo>
                    <a:pt x="356" y="0"/>
                  </a:lnTo>
                  <a:lnTo>
                    <a:pt x="653" y="0"/>
                  </a:lnTo>
                  <a:lnTo>
                    <a:pt x="704" y="104"/>
                  </a:lnTo>
                  <a:lnTo>
                    <a:pt x="742" y="275"/>
                  </a:lnTo>
                  <a:lnTo>
                    <a:pt x="0" y="275"/>
                  </a:lnTo>
                  <a:lnTo>
                    <a:pt x="0" y="161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3840" y="3379680"/>
              <a:ext cx="1179360" cy="437760"/>
            </a:xfrm>
            <a:custGeom>
              <a:avLst/>
              <a:gdLst/>
              <a:ahLst/>
              <a:rect l="l" t="t" r="r" b="b"/>
              <a:pathLst>
                <a:path w="743" h="276">
                  <a:moveTo>
                    <a:pt x="29" y="0"/>
                  </a:moveTo>
                  <a:lnTo>
                    <a:pt x="355" y="0"/>
                  </a:lnTo>
                  <a:lnTo>
                    <a:pt x="653" y="0"/>
                  </a:lnTo>
                  <a:lnTo>
                    <a:pt x="704" y="104"/>
                  </a:lnTo>
                  <a:lnTo>
                    <a:pt x="742" y="275"/>
                  </a:lnTo>
                  <a:lnTo>
                    <a:pt x="0" y="275"/>
                  </a:lnTo>
                  <a:lnTo>
                    <a:pt x="0" y="161"/>
                  </a:lnTo>
                  <a:lnTo>
                    <a:pt x="29" y="0"/>
                  </a:lnTo>
                </a:path>
              </a:pathLst>
            </a:custGeom>
            <a:solidFill>
              <a:srgbClr val="895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08120" y="1812960"/>
            <a:ext cx="723960" cy="711000"/>
            <a:chOff x="708120" y="1812960"/>
            <a:chExt cx="723960" cy="711000"/>
          </a:xfrm>
        </p:grpSpPr>
        <p:sp>
          <p:nvSpPr>
            <p:cNvPr id="407" name=""/>
            <p:cNvSpPr/>
            <p:nvPr/>
          </p:nvSpPr>
          <p:spPr>
            <a:xfrm>
              <a:off x="708120" y="1812960"/>
              <a:ext cx="723960" cy="711000"/>
            </a:xfrm>
            <a:prstGeom prst="rect">
              <a:avLst/>
            </a:prstGeom>
            <a:solidFill>
              <a:srgbClr val="66ccff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2640" y="1888920"/>
              <a:ext cx="585720" cy="55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0920" y="1977840"/>
              <a:ext cx="40968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0920" y="2133360"/>
              <a:ext cx="409680" cy="7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0920" y="2273040"/>
              <a:ext cx="169920" cy="10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33640" y="2282760"/>
              <a:ext cx="166680" cy="9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D00D7-C22B-4A4E-B7D1-EAC28E7172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WEB Data Blade (4)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ML&gt; &lt;BODY&gt; &lt;TABLE 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?MISQL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SQL=“SELECT lname,fname FROM cust;”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TR&gt;&lt;TD&g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/TD&gt;&lt;TD&g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/TD&gt; &lt;/TR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?/MISQL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&lt;/TABLE&gt; &lt;/BODY&gt; &lt;/HTML&gt;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3434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http://www.comsoft.co.il/cgi-bin/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Arial (Hebrew)"/>
              </a:rPr>
              <a:t>Webdriver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?Mival=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(Hebrew)"/>
              </a:rPr>
              <a:t>xyz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510552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SELECT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  <a:ea typeface="Arial (Hebrew)"/>
              </a:rPr>
              <a:t>WebExplode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(page) from webPage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WHERE page_id = “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  <a:ea typeface="Arial (Hebrew)"/>
              </a:rPr>
              <a:t>xyz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 (Hebrew)"/>
              </a:rPr>
              <a:t>”;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69614-02D3-4319-B78C-0044DC11972E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מערכות מידע - המצב כיום (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he-IL" sz="40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ורכבות המידע דורשת מערכות נפרדו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א ניתן לקשר בין המידע “הרגיל” לבין המערכות המיוחדות באופן יעיל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019400" y="4143240"/>
          <a:ext cx="26496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4143240"/>
                    <a:ext cx="26496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38BAF-4572-414C-BE92-2B2A0825FF7E}" type="datetime1">
              <a:rPr lang="en-US"/>
              <a:t>07/28/26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Fuzzy Searching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ההשוואה השונות מחזירות את דרגת ההתאמה, ולא תשובה מוחלטת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ההשוואה השונות מאפשרות מתן משקל שונה לכל קטגוריה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ימוש במספר סוגי השוואה בו-זמנית, תוך מתן משקל שונה לכל תוצאה מהווה כלי חשוב לניתוח מידע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1E017-2268-41C6-B31C-334B5B5C5F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Event Data Bla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תהליך טיפול בתביעה הינו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vent Driven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יום שלב בתהליך יוזם את תחילתו של הבא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יישומי לקוח יכולים להיות “מנויים” על אירוע מסו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בסיס הנתונים “מפיץ” את עובדת התרחשותו למנוי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שתמש מטפל באירוע במסגרת טרנזאקציה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3CF4A-31F1-4896-9A3A-3F35D4A62EC2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Verificatio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חקירות ביטוח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הצלבת מידע גרפי וקולי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חיפוש במאגרי צילום של אנשים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ימות פרט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כניסה לתחום שמור - השוואת  צילום הפנים וטביעת האצבעות לקבלת אישור זהות משוקלל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336699"/>
                </a:solidFill>
                <a:latin typeface="Arial"/>
              </a:rPr>
              <a:t>אישור לזהותו של נותן הוראה בנקאית טלפונית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4832A-303C-4EFB-846B-7F25FB5926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למי זה מתאים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לכל מי שאמר או רצה לומר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למה אנו צוברים את כל המידע הזה אם אנו לא מסוגלים לחפש בו?!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מה זאת אומרת שמערכת אחזור הטקסט לא יודעת לדבר עם המערכת הגאוגרפית???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תראה, זה אפשרי… אבל, יקח המון זמן לכתוב את זה…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“כן, זה רץ כבר שלושה ימים ועדיין לא סיים”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73DFC-BB31-4EC6-8FED-BBAA73A00B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סיכום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כ - 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%80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 מהמידע בארגון אינו נמצא בבסיס הנתונים - אינו נגיש. מידע הוא כח! (כאשר ניתן להפיקו.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יכולת ההרחבה מקנה ידע למנוע בסיס הנתונים, לגבי מידע שלא ניתן היה להתיחס אליו עד היום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הפונקציונליות החדשה הינה חלק מבסיס הנתונים ומוכרת ע”י כל אחד ממרכיביו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אין צורך לפתח. קיים מבחר גדול של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ata Blades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he-IL" sz="2400" spc="-1" strike="noStrike">
                <a:solidFill>
                  <a:srgbClr val="336699"/>
                </a:solidFill>
                <a:latin typeface="Arial"/>
              </a:rPr>
              <a:t>בכל תחום. לקנות את המתאים ביותר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D42CE-0BEB-4875-9706-31CFDC1F19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דרישה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מצא את כל החנויות שנמצאות במרחק של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קילומטרים ממחסן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קונות גבינה לבנה בסכום גדול מ -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ומבצעות הזמנה לפחות כל ארבעה ימי עבודה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שאילתה יעילה אחת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29093-012F-4CC4-9E40-6FAC81B30B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הפתרון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i="1" lang="he-IL" sz="3200" spc="-1" strike="noStrike">
                <a:solidFill>
                  <a:srgbClr val="6c2867"/>
                </a:solidFill>
                <a:latin typeface="Arial"/>
              </a:rPr>
              <a:t>התרחבות - </a:t>
            </a:r>
            <a:r>
              <a:rPr b="1" i="1" lang="en-US" sz="3200" spc="-1" strike="noStrike">
                <a:solidFill>
                  <a:srgbClr val="6c2867"/>
                </a:solidFill>
                <a:latin typeface="Arial"/>
              </a:rPr>
              <a:t>Extensibility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יכולת להרחיב את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5050"/>
                </a:solidFill>
                <a:latin typeface="Arial"/>
              </a:rPr>
              <a:t>הידע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 של בסיס הנתונים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אודות </a:t>
            </a:r>
            <a:r>
              <a:rPr b="1" lang="he-IL" sz="3200" spc="-1" strike="noStrike">
                <a:solidFill>
                  <a:srgbClr val="ff5050"/>
                </a:solidFill>
                <a:latin typeface="Arial"/>
              </a:rPr>
              <a:t>המידע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68F7B-A631-4501-9768-134A28BC4F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c2867"/>
                </a:solidFill>
                <a:latin typeface="Times New Roman"/>
              </a:rPr>
              <a:t>Extensibility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תייחסות אל המידע כפי שהוא ללא צורך בהשטחת המודל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הרחבת יכולת השרת לתמוך בכל סוגי המידע בארגון.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יצירת שיטות מיפתוח חדשות התואמות סוגי מידע חדשים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6814-7CA6-4DB0-B7E6-956F86CD6E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SQL 3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תוך שימוש ב-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QL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יכול המשתמש להגדיר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T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סוגי מידע חדשי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Distinct, Row, Opaque Data Typ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rray, Set, Referenc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DR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1" lang="he-IL" sz="3200" spc="-1" strike="noStrike">
                <a:solidFill>
                  <a:srgbClr val="336699"/>
                </a:solidFill>
                <a:latin typeface="Arial"/>
              </a:rPr>
              <a:t>פונקציות המוגדרות ע”י המשתמש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PL, C++, C, Jav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B99B7-EE7C-4185-93E4-77848536B0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66ff"/>
                </a:solidFill>
                <a:latin typeface="Times New Roman"/>
              </a:rPr>
              <a:t>סוגי מידע -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UD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2320" y="4114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c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5640" y="2819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floa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708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inch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86160" y="3283200"/>
            <a:ext cx="866160" cy="901080"/>
          </a:xfrm>
          <a:prstGeom prst="line">
            <a:avLst/>
          </a:prstGeom>
          <a:ln cap="sq" w="38160">
            <a:solidFill>
              <a:srgbClr val="33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0000" y="3264120"/>
            <a:ext cx="903600" cy="863280"/>
          </a:xfrm>
          <a:prstGeom prst="line">
            <a:avLst/>
          </a:prstGeom>
          <a:ln cap="sq" w="38160">
            <a:solidFill>
              <a:srgbClr val="3366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343400"/>
            <a:ext cx="990720" cy="0"/>
          </a:xfrm>
          <a:prstGeom prst="line">
            <a:avLst/>
          </a:prstGeom>
          <a:ln w="28440">
            <a:solidFill>
              <a:srgbClr val="336699"/>
            </a:solidFill>
            <a:prstDash val="sysDot"/>
            <a:miter/>
            <a:headEnd len="lg" type="arrow" w="sm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7640" y="2819520"/>
            <a:ext cx="181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Employe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ID_nu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L_Nam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F_Nam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31440" y="213372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Row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13372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Distinct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08320" y="495288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Opaque -: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  <a:ea typeface="Times New Roman (Hebrew)"/>
              </a:rPr>
              <a:t>C structu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40F1D-0C2C-4123-8ED0-D46F219D0B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3T16:28:36Z</dcterms:created>
  <dc:creator>comsoft</dc:creator>
  <dc:description/>
  <dc:language>en-US</dc:language>
  <cp:lastModifiedBy>אסף ארבלי</cp:lastModifiedBy>
  <cp:lastPrinted>1996-03-05T21:54:17Z</cp:lastPrinted>
  <dcterms:modified xsi:type="dcterms:W3CDTF">1999-11-17T23:02:32Z</dcterms:modified>
  <cp:revision>75</cp:revision>
  <dc:subject/>
  <dc:title>ORDBMS - העתיד כבר כאן  שימושים חשובים של הטכנולוגיה החדשה</dc:title>
</cp:coreProperties>
</file>